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B7B6-653C-4A81-A5C8-4708DAB49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2A88-379A-429C-91BE-1E745044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026B-1DBC-4CD8-A960-5F94190A8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A149-CE7B-4506-AFDE-81A5BE9CB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A91E-F0A2-4830-8363-89F7401F1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7FA1-FF1F-4D09-B375-B7505E7D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9408-0884-4F44-96E3-C00A1247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06B45-B9A2-4500-96C9-D0E07A68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7576F-2FDA-418E-8522-AEFDA76F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F5DE-BEC9-40EA-B1F9-67B16778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D8344-F56C-44C7-8372-E6C7ACCB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FBED-C417-4245-8DED-E466CB95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1C671-BE91-4A14-ACBC-2045CD74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AEBC8-1063-460E-972D-2853A6E2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7D43-AFD9-4D86-92D9-A8261946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AE1C-F341-461C-AB3A-892665399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A9FF-5505-481E-9F14-72675FDFD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2547-0F40-452F-B8FB-7ADFC663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F280-B04E-4085-869C-473A7EE3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F73C-4C9A-44FF-8660-3F3737C2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B733-67F9-4E3A-A6C1-DA17A163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6B1A-E849-44DE-8BBA-56E6A786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EF5D-39A5-48D5-8E0C-8CE1316A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F1CC-DA0E-4DC7-A95A-E7211206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">
            <a:hlinkClick r:id="" action="ppaction://hlinkshowjump?jump=firstslide"/>
          </p:cNvPr>
          <p:cNvSpPr/>
          <p:nvPr/>
        </p:nvSpPr>
        <p:spPr>
          <a:xfrm>
            <a:off x="7238880" y="63244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9999"/>
                </a:solidFill>
                <a:latin typeface="Arial"/>
              </a:rPr>
              <a:t>Saltar a la primera página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52280" y="55627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5866920"/>
            <a:ext cx="2590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3E87-E4C5-476C-842C-14D8B40C31A3}" type="slidenum">
              <a:rPr b="0" lang="es-E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00120" y="170820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90920" y="780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" name="">
            <a:hlinkClick r:id="" action="ppaction://hlinkshowjump?jump=firstslide"/>
          </p:cNvPr>
          <p:cNvSpPr/>
          <p:nvPr/>
        </p:nvSpPr>
        <p:spPr>
          <a:xfrm>
            <a:off x="7238880" y="63244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9999"/>
                </a:solidFill>
                <a:latin typeface="Arial"/>
              </a:rPr>
              <a:t>Saltar a la primera página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152280" y="5486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151920" y="5791320"/>
            <a:ext cx="26672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CAD0-A66C-411E-91AB-0D17B0194280}" type="slidenum">
              <a:rPr b="0" lang="es-E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84000" y="0"/>
            <a:ext cx="665964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RMULA FUNDAMENTAL DE VENTILACION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"/>
          <p:cNvSpPr/>
          <p:nvPr/>
        </p:nvSpPr>
        <p:spPr>
          <a:xfrm>
            <a:off x="3456000" y="5627520"/>
            <a:ext cx="2036880" cy="32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79280" y="101520"/>
            <a:ext cx="3095640" cy="520560"/>
            <a:chOff x="179280" y="101520"/>
            <a:chExt cx="3095640" cy="520560"/>
          </a:xfrm>
        </p:grpSpPr>
        <p:sp>
          <p:nvSpPr>
            <p:cNvPr id="93" name=""/>
            <p:cNvSpPr/>
            <p:nvPr/>
          </p:nvSpPr>
          <p:spPr>
            <a:xfrm>
              <a:off x="1308240" y="101520"/>
              <a:ext cx="1249200" cy="505080"/>
            </a:xfrm>
            <a:custGeom>
              <a:avLst/>
              <a:gdLst/>
              <a:ahLst/>
              <a:rect l="l" t="t" r="r" b="b"/>
              <a:pathLst>
                <a:path w="2774" h="1812">
                  <a:moveTo>
                    <a:pt x="101" y="1659"/>
                  </a:moveTo>
                  <a:cubicBezTo>
                    <a:pt x="205" y="1609"/>
                    <a:pt x="295" y="1462"/>
                    <a:pt x="366" y="1371"/>
                  </a:cubicBezTo>
                  <a:cubicBezTo>
                    <a:pt x="389" y="1311"/>
                    <a:pt x="416" y="1260"/>
                    <a:pt x="452" y="1207"/>
                  </a:cubicBezTo>
                  <a:cubicBezTo>
                    <a:pt x="460" y="1195"/>
                    <a:pt x="474" y="1188"/>
                    <a:pt x="483" y="1176"/>
                  </a:cubicBezTo>
                  <a:cubicBezTo>
                    <a:pt x="492" y="1164"/>
                    <a:pt x="496" y="1148"/>
                    <a:pt x="506" y="1137"/>
                  </a:cubicBezTo>
                  <a:cubicBezTo>
                    <a:pt x="564" y="1072"/>
                    <a:pt x="527" y="1140"/>
                    <a:pt x="576" y="1075"/>
                  </a:cubicBezTo>
                  <a:cubicBezTo>
                    <a:pt x="583" y="1066"/>
                    <a:pt x="585" y="1053"/>
                    <a:pt x="592" y="1044"/>
                  </a:cubicBezTo>
                  <a:cubicBezTo>
                    <a:pt x="598" y="1037"/>
                    <a:pt x="608" y="1034"/>
                    <a:pt x="615" y="1028"/>
                  </a:cubicBezTo>
                  <a:cubicBezTo>
                    <a:pt x="670" y="982"/>
                    <a:pt x="607" y="1030"/>
                    <a:pt x="662" y="974"/>
                  </a:cubicBezTo>
                  <a:cubicBezTo>
                    <a:pt x="723" y="912"/>
                    <a:pt x="670" y="984"/>
                    <a:pt x="709" y="927"/>
                  </a:cubicBezTo>
                  <a:cubicBezTo>
                    <a:pt x="696" y="863"/>
                    <a:pt x="687" y="817"/>
                    <a:pt x="701" y="748"/>
                  </a:cubicBezTo>
                  <a:cubicBezTo>
                    <a:pt x="707" y="717"/>
                    <a:pt x="756" y="681"/>
                    <a:pt x="779" y="662"/>
                  </a:cubicBezTo>
                  <a:cubicBezTo>
                    <a:pt x="817" y="630"/>
                    <a:pt x="843" y="584"/>
                    <a:pt x="872" y="545"/>
                  </a:cubicBezTo>
                  <a:cubicBezTo>
                    <a:pt x="902" y="430"/>
                    <a:pt x="915" y="362"/>
                    <a:pt x="1020" y="303"/>
                  </a:cubicBezTo>
                  <a:cubicBezTo>
                    <a:pt x="1048" y="287"/>
                    <a:pt x="1072" y="265"/>
                    <a:pt x="1098" y="249"/>
                  </a:cubicBezTo>
                  <a:cubicBezTo>
                    <a:pt x="1118" y="237"/>
                    <a:pt x="1161" y="218"/>
                    <a:pt x="1161" y="218"/>
                  </a:cubicBezTo>
                  <a:cubicBezTo>
                    <a:pt x="1173" y="186"/>
                    <a:pt x="1186" y="131"/>
                    <a:pt x="1215" y="109"/>
                  </a:cubicBezTo>
                  <a:cubicBezTo>
                    <a:pt x="1246" y="86"/>
                    <a:pt x="1274" y="55"/>
                    <a:pt x="1309" y="38"/>
                  </a:cubicBezTo>
                  <a:cubicBezTo>
                    <a:pt x="1340" y="23"/>
                    <a:pt x="1371" y="15"/>
                    <a:pt x="1402" y="0"/>
                  </a:cubicBezTo>
                  <a:cubicBezTo>
                    <a:pt x="1509" y="8"/>
                    <a:pt x="1587" y="33"/>
                    <a:pt x="1691" y="62"/>
                  </a:cubicBezTo>
                  <a:cubicBezTo>
                    <a:pt x="1744" y="94"/>
                    <a:pt x="1787" y="131"/>
                    <a:pt x="1839" y="163"/>
                  </a:cubicBezTo>
                  <a:cubicBezTo>
                    <a:pt x="1834" y="202"/>
                    <a:pt x="1832" y="242"/>
                    <a:pt x="1823" y="280"/>
                  </a:cubicBezTo>
                  <a:cubicBezTo>
                    <a:pt x="1821" y="289"/>
                    <a:pt x="1805" y="294"/>
                    <a:pt x="1807" y="303"/>
                  </a:cubicBezTo>
                  <a:cubicBezTo>
                    <a:pt x="1825" y="392"/>
                    <a:pt x="1943" y="427"/>
                    <a:pt x="1994" y="490"/>
                  </a:cubicBezTo>
                  <a:cubicBezTo>
                    <a:pt x="2043" y="551"/>
                    <a:pt x="2055" y="614"/>
                    <a:pt x="2080" y="685"/>
                  </a:cubicBezTo>
                  <a:cubicBezTo>
                    <a:pt x="2083" y="711"/>
                    <a:pt x="2070" y="745"/>
                    <a:pt x="2088" y="763"/>
                  </a:cubicBezTo>
                  <a:cubicBezTo>
                    <a:pt x="2106" y="781"/>
                    <a:pt x="2140" y="765"/>
                    <a:pt x="2166" y="771"/>
                  </a:cubicBezTo>
                  <a:cubicBezTo>
                    <a:pt x="2224" y="784"/>
                    <a:pt x="2267" y="841"/>
                    <a:pt x="2314" y="872"/>
                  </a:cubicBezTo>
                  <a:cubicBezTo>
                    <a:pt x="2317" y="885"/>
                    <a:pt x="2318" y="898"/>
                    <a:pt x="2322" y="911"/>
                  </a:cubicBezTo>
                  <a:cubicBezTo>
                    <a:pt x="2326" y="924"/>
                    <a:pt x="2333" y="937"/>
                    <a:pt x="2337" y="950"/>
                  </a:cubicBezTo>
                  <a:cubicBezTo>
                    <a:pt x="2366" y="1061"/>
                    <a:pt x="2336" y="995"/>
                    <a:pt x="2369" y="1059"/>
                  </a:cubicBezTo>
                  <a:cubicBezTo>
                    <a:pt x="2381" y="1112"/>
                    <a:pt x="2399" y="1154"/>
                    <a:pt x="2439" y="1192"/>
                  </a:cubicBezTo>
                  <a:cubicBezTo>
                    <a:pt x="2446" y="1223"/>
                    <a:pt x="2451" y="1255"/>
                    <a:pt x="2462" y="1285"/>
                  </a:cubicBezTo>
                  <a:cubicBezTo>
                    <a:pt x="2466" y="1319"/>
                    <a:pt x="2461" y="1357"/>
                    <a:pt x="2478" y="1387"/>
                  </a:cubicBezTo>
                  <a:cubicBezTo>
                    <a:pt x="2487" y="1403"/>
                    <a:pt x="2559" y="1451"/>
                    <a:pt x="2579" y="1465"/>
                  </a:cubicBezTo>
                  <a:cubicBezTo>
                    <a:pt x="2591" y="1522"/>
                    <a:pt x="2608" y="1607"/>
                    <a:pt x="2649" y="1652"/>
                  </a:cubicBezTo>
                  <a:cubicBezTo>
                    <a:pt x="2691" y="1698"/>
                    <a:pt x="2735" y="1735"/>
                    <a:pt x="2774" y="1784"/>
                  </a:cubicBezTo>
                  <a:cubicBezTo>
                    <a:pt x="2719" y="1812"/>
                    <a:pt x="2723" y="1781"/>
                    <a:pt x="2665" y="1769"/>
                  </a:cubicBezTo>
                  <a:cubicBezTo>
                    <a:pt x="2629" y="1762"/>
                    <a:pt x="2592" y="1758"/>
                    <a:pt x="2556" y="1753"/>
                  </a:cubicBezTo>
                  <a:cubicBezTo>
                    <a:pt x="2507" y="1733"/>
                    <a:pt x="2452" y="1719"/>
                    <a:pt x="2407" y="1691"/>
                  </a:cubicBezTo>
                  <a:cubicBezTo>
                    <a:pt x="2297" y="1696"/>
                    <a:pt x="2202" y="1706"/>
                    <a:pt x="2096" y="1722"/>
                  </a:cubicBezTo>
                  <a:cubicBezTo>
                    <a:pt x="1987" y="1714"/>
                    <a:pt x="1890" y="1723"/>
                    <a:pt x="1784" y="1737"/>
                  </a:cubicBezTo>
                  <a:cubicBezTo>
                    <a:pt x="1646" y="1735"/>
                    <a:pt x="1507" y="1752"/>
                    <a:pt x="1371" y="1730"/>
                  </a:cubicBezTo>
                  <a:cubicBezTo>
                    <a:pt x="1350" y="1727"/>
                    <a:pt x="1375" y="1675"/>
                    <a:pt x="1355" y="1667"/>
                  </a:cubicBezTo>
                  <a:cubicBezTo>
                    <a:pt x="1314" y="1652"/>
                    <a:pt x="1267" y="1672"/>
                    <a:pt x="1223" y="1675"/>
                  </a:cubicBezTo>
                  <a:cubicBezTo>
                    <a:pt x="1116" y="1719"/>
                    <a:pt x="1004" y="1702"/>
                    <a:pt x="888" y="1706"/>
                  </a:cubicBezTo>
                  <a:cubicBezTo>
                    <a:pt x="846" y="1720"/>
                    <a:pt x="805" y="1725"/>
                    <a:pt x="763" y="1737"/>
                  </a:cubicBezTo>
                  <a:cubicBezTo>
                    <a:pt x="609" y="1732"/>
                    <a:pt x="561" y="1735"/>
                    <a:pt x="420" y="1714"/>
                  </a:cubicBezTo>
                  <a:cubicBezTo>
                    <a:pt x="278" y="1693"/>
                    <a:pt x="143" y="1655"/>
                    <a:pt x="0" y="1644"/>
                  </a:cubicBezTo>
                  <a:cubicBezTo>
                    <a:pt x="5" y="1652"/>
                    <a:pt x="7" y="1662"/>
                    <a:pt x="15" y="1667"/>
                  </a:cubicBezTo>
                  <a:cubicBezTo>
                    <a:pt x="27" y="1674"/>
                    <a:pt x="42" y="1670"/>
                    <a:pt x="54" y="1675"/>
                  </a:cubicBezTo>
                  <a:cubicBezTo>
                    <a:pt x="74" y="1683"/>
                    <a:pt x="90" y="1697"/>
                    <a:pt x="109" y="1706"/>
                  </a:cubicBezTo>
                  <a:cubicBezTo>
                    <a:pt x="137" y="1696"/>
                    <a:pt x="143" y="1680"/>
                    <a:pt x="163" y="1659"/>
                  </a:cubicBezTo>
                </a:path>
              </a:pathLst>
            </a:custGeom>
            <a:noFill/>
            <a:ln w="9360">
              <a:solidFill>
                <a:srgbClr val="01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415880" y="222120"/>
              <a:ext cx="785880" cy="304920"/>
            </a:xfrm>
            <a:custGeom>
              <a:avLst/>
              <a:gdLst/>
              <a:ahLst/>
              <a:rect l="l" t="t" r="r" b="b"/>
              <a:pathLst>
                <a:path w="1744" h="1094">
                  <a:moveTo>
                    <a:pt x="46" y="1060"/>
                  </a:moveTo>
                  <a:cubicBezTo>
                    <a:pt x="57" y="1016"/>
                    <a:pt x="82" y="997"/>
                    <a:pt x="124" y="982"/>
                  </a:cubicBezTo>
                  <a:cubicBezTo>
                    <a:pt x="173" y="992"/>
                    <a:pt x="193" y="1010"/>
                    <a:pt x="156" y="1068"/>
                  </a:cubicBezTo>
                  <a:cubicBezTo>
                    <a:pt x="146" y="1084"/>
                    <a:pt x="119" y="1078"/>
                    <a:pt x="101" y="1083"/>
                  </a:cubicBezTo>
                  <a:cubicBezTo>
                    <a:pt x="27" y="1064"/>
                    <a:pt x="59" y="1076"/>
                    <a:pt x="202" y="1068"/>
                  </a:cubicBezTo>
                  <a:cubicBezTo>
                    <a:pt x="279" y="1042"/>
                    <a:pt x="233" y="1053"/>
                    <a:pt x="343" y="1044"/>
                  </a:cubicBezTo>
                  <a:cubicBezTo>
                    <a:pt x="374" y="1036"/>
                    <a:pt x="404" y="1027"/>
                    <a:pt x="436" y="1021"/>
                  </a:cubicBezTo>
                  <a:cubicBezTo>
                    <a:pt x="578" y="1027"/>
                    <a:pt x="693" y="1037"/>
                    <a:pt x="834" y="1044"/>
                  </a:cubicBezTo>
                  <a:cubicBezTo>
                    <a:pt x="852" y="1054"/>
                    <a:pt x="867" y="1073"/>
                    <a:pt x="888" y="1075"/>
                  </a:cubicBezTo>
                  <a:cubicBezTo>
                    <a:pt x="904" y="1077"/>
                    <a:pt x="919" y="1070"/>
                    <a:pt x="935" y="1068"/>
                  </a:cubicBezTo>
                  <a:cubicBezTo>
                    <a:pt x="1015" y="1060"/>
                    <a:pt x="1105" y="1056"/>
                    <a:pt x="1184" y="1052"/>
                  </a:cubicBezTo>
                  <a:cubicBezTo>
                    <a:pt x="1270" y="1041"/>
                    <a:pt x="1356" y="1040"/>
                    <a:pt x="1441" y="1029"/>
                  </a:cubicBezTo>
                  <a:cubicBezTo>
                    <a:pt x="1427" y="816"/>
                    <a:pt x="1471" y="928"/>
                    <a:pt x="1130" y="912"/>
                  </a:cubicBezTo>
                  <a:cubicBezTo>
                    <a:pt x="1100" y="911"/>
                    <a:pt x="1044" y="888"/>
                    <a:pt x="1044" y="888"/>
                  </a:cubicBezTo>
                  <a:cubicBezTo>
                    <a:pt x="782" y="896"/>
                    <a:pt x="530" y="915"/>
                    <a:pt x="265" y="920"/>
                  </a:cubicBezTo>
                  <a:cubicBezTo>
                    <a:pt x="221" y="933"/>
                    <a:pt x="178" y="943"/>
                    <a:pt x="132" y="951"/>
                  </a:cubicBezTo>
                  <a:cubicBezTo>
                    <a:pt x="116" y="956"/>
                    <a:pt x="85" y="950"/>
                    <a:pt x="85" y="966"/>
                  </a:cubicBezTo>
                  <a:cubicBezTo>
                    <a:pt x="85" y="974"/>
                    <a:pt x="101" y="973"/>
                    <a:pt x="109" y="974"/>
                  </a:cubicBezTo>
                  <a:cubicBezTo>
                    <a:pt x="135" y="978"/>
                    <a:pt x="161" y="979"/>
                    <a:pt x="187" y="982"/>
                  </a:cubicBezTo>
                  <a:cubicBezTo>
                    <a:pt x="184" y="1005"/>
                    <a:pt x="188" y="1030"/>
                    <a:pt x="179" y="1052"/>
                  </a:cubicBezTo>
                  <a:cubicBezTo>
                    <a:pt x="178" y="1055"/>
                    <a:pt x="111" y="1072"/>
                    <a:pt x="101" y="1075"/>
                  </a:cubicBezTo>
                  <a:cubicBezTo>
                    <a:pt x="85" y="1080"/>
                    <a:pt x="54" y="1091"/>
                    <a:pt x="54" y="1091"/>
                  </a:cubicBezTo>
                  <a:cubicBezTo>
                    <a:pt x="41" y="1088"/>
                    <a:pt x="22" y="1094"/>
                    <a:pt x="15" y="1083"/>
                  </a:cubicBezTo>
                  <a:cubicBezTo>
                    <a:pt x="0" y="1061"/>
                    <a:pt x="37" y="1014"/>
                    <a:pt x="54" y="1005"/>
                  </a:cubicBezTo>
                  <a:cubicBezTo>
                    <a:pt x="106" y="980"/>
                    <a:pt x="172" y="982"/>
                    <a:pt x="226" y="959"/>
                  </a:cubicBezTo>
                  <a:cubicBezTo>
                    <a:pt x="285" y="934"/>
                    <a:pt x="301" y="905"/>
                    <a:pt x="366" y="888"/>
                  </a:cubicBezTo>
                  <a:cubicBezTo>
                    <a:pt x="467" y="890"/>
                    <a:pt x="741" y="926"/>
                    <a:pt x="888" y="888"/>
                  </a:cubicBezTo>
                  <a:cubicBezTo>
                    <a:pt x="1032" y="894"/>
                    <a:pt x="1159" y="912"/>
                    <a:pt x="1301" y="920"/>
                  </a:cubicBezTo>
                  <a:cubicBezTo>
                    <a:pt x="1409" y="913"/>
                    <a:pt x="1535" y="934"/>
                    <a:pt x="1628" y="873"/>
                  </a:cubicBezTo>
                  <a:cubicBezTo>
                    <a:pt x="1640" y="826"/>
                    <a:pt x="1623" y="767"/>
                    <a:pt x="1566" y="764"/>
                  </a:cubicBezTo>
                  <a:cubicBezTo>
                    <a:pt x="1436" y="757"/>
                    <a:pt x="1306" y="759"/>
                    <a:pt x="1176" y="756"/>
                  </a:cubicBezTo>
                  <a:cubicBezTo>
                    <a:pt x="1166" y="751"/>
                    <a:pt x="1155" y="746"/>
                    <a:pt x="1145" y="740"/>
                  </a:cubicBezTo>
                  <a:cubicBezTo>
                    <a:pt x="1137" y="735"/>
                    <a:pt x="1119" y="733"/>
                    <a:pt x="1122" y="725"/>
                  </a:cubicBezTo>
                  <a:cubicBezTo>
                    <a:pt x="1135" y="693"/>
                    <a:pt x="1216" y="695"/>
                    <a:pt x="1231" y="694"/>
                  </a:cubicBezTo>
                  <a:cubicBezTo>
                    <a:pt x="1308" y="674"/>
                    <a:pt x="1388" y="684"/>
                    <a:pt x="1465" y="701"/>
                  </a:cubicBezTo>
                  <a:cubicBezTo>
                    <a:pt x="1510" y="694"/>
                    <a:pt x="1509" y="704"/>
                    <a:pt x="1535" y="670"/>
                  </a:cubicBezTo>
                  <a:cubicBezTo>
                    <a:pt x="1546" y="655"/>
                    <a:pt x="1566" y="623"/>
                    <a:pt x="1566" y="623"/>
                  </a:cubicBezTo>
                  <a:cubicBezTo>
                    <a:pt x="1422" y="482"/>
                    <a:pt x="1307" y="528"/>
                    <a:pt x="1083" y="522"/>
                  </a:cubicBezTo>
                  <a:cubicBezTo>
                    <a:pt x="1101" y="471"/>
                    <a:pt x="1213" y="463"/>
                    <a:pt x="1262" y="460"/>
                  </a:cubicBezTo>
                  <a:cubicBezTo>
                    <a:pt x="1343" y="456"/>
                    <a:pt x="1423" y="455"/>
                    <a:pt x="1504" y="452"/>
                  </a:cubicBezTo>
                  <a:cubicBezTo>
                    <a:pt x="1496" y="322"/>
                    <a:pt x="1521" y="322"/>
                    <a:pt x="1418" y="304"/>
                  </a:cubicBezTo>
                  <a:cubicBezTo>
                    <a:pt x="1304" y="309"/>
                    <a:pt x="1243" y="310"/>
                    <a:pt x="1145" y="335"/>
                  </a:cubicBezTo>
                  <a:cubicBezTo>
                    <a:pt x="1132" y="327"/>
                    <a:pt x="1111" y="326"/>
                    <a:pt x="1106" y="312"/>
                  </a:cubicBezTo>
                  <a:cubicBezTo>
                    <a:pt x="1103" y="303"/>
                    <a:pt x="1122" y="301"/>
                    <a:pt x="1130" y="296"/>
                  </a:cubicBezTo>
                  <a:cubicBezTo>
                    <a:pt x="1150" y="285"/>
                    <a:pt x="1169" y="267"/>
                    <a:pt x="1192" y="265"/>
                  </a:cubicBezTo>
                  <a:cubicBezTo>
                    <a:pt x="1253" y="259"/>
                    <a:pt x="1311" y="252"/>
                    <a:pt x="1371" y="242"/>
                  </a:cubicBezTo>
                  <a:cubicBezTo>
                    <a:pt x="1389" y="239"/>
                    <a:pt x="1408" y="238"/>
                    <a:pt x="1426" y="234"/>
                  </a:cubicBezTo>
                  <a:cubicBezTo>
                    <a:pt x="1447" y="230"/>
                    <a:pt x="1488" y="218"/>
                    <a:pt x="1488" y="218"/>
                  </a:cubicBezTo>
                  <a:cubicBezTo>
                    <a:pt x="1434" y="178"/>
                    <a:pt x="1375" y="146"/>
                    <a:pt x="1309" y="132"/>
                  </a:cubicBezTo>
                  <a:cubicBezTo>
                    <a:pt x="1272" y="114"/>
                    <a:pt x="1241" y="108"/>
                    <a:pt x="1200" y="101"/>
                  </a:cubicBezTo>
                  <a:cubicBezTo>
                    <a:pt x="1171" y="103"/>
                    <a:pt x="1026" y="112"/>
                    <a:pt x="989" y="117"/>
                  </a:cubicBezTo>
                  <a:cubicBezTo>
                    <a:pt x="962" y="120"/>
                    <a:pt x="938" y="138"/>
                    <a:pt x="911" y="140"/>
                  </a:cubicBezTo>
                  <a:cubicBezTo>
                    <a:pt x="691" y="158"/>
                    <a:pt x="782" y="149"/>
                    <a:pt x="639" y="164"/>
                  </a:cubicBezTo>
                  <a:cubicBezTo>
                    <a:pt x="616" y="161"/>
                    <a:pt x="590" y="167"/>
                    <a:pt x="569" y="156"/>
                  </a:cubicBezTo>
                  <a:cubicBezTo>
                    <a:pt x="562" y="152"/>
                    <a:pt x="574" y="140"/>
                    <a:pt x="576" y="132"/>
                  </a:cubicBezTo>
                  <a:cubicBezTo>
                    <a:pt x="587" y="90"/>
                    <a:pt x="601" y="90"/>
                    <a:pt x="639" y="70"/>
                  </a:cubicBezTo>
                  <a:cubicBezTo>
                    <a:pt x="718" y="79"/>
                    <a:pt x="707" y="66"/>
                    <a:pt x="724" y="125"/>
                  </a:cubicBezTo>
                  <a:cubicBezTo>
                    <a:pt x="722" y="138"/>
                    <a:pt x="730" y="161"/>
                    <a:pt x="717" y="164"/>
                  </a:cubicBezTo>
                  <a:cubicBezTo>
                    <a:pt x="612" y="192"/>
                    <a:pt x="617" y="182"/>
                    <a:pt x="600" y="132"/>
                  </a:cubicBezTo>
                  <a:cubicBezTo>
                    <a:pt x="629" y="47"/>
                    <a:pt x="598" y="115"/>
                    <a:pt x="802" y="101"/>
                  </a:cubicBezTo>
                  <a:cubicBezTo>
                    <a:pt x="876" y="96"/>
                    <a:pt x="950" y="83"/>
                    <a:pt x="1021" y="62"/>
                  </a:cubicBezTo>
                  <a:cubicBezTo>
                    <a:pt x="1069" y="31"/>
                    <a:pt x="1120" y="22"/>
                    <a:pt x="1176" y="16"/>
                  </a:cubicBezTo>
                  <a:cubicBezTo>
                    <a:pt x="1246" y="18"/>
                    <a:pt x="1321" y="0"/>
                    <a:pt x="1387" y="23"/>
                  </a:cubicBezTo>
                  <a:cubicBezTo>
                    <a:pt x="1409" y="31"/>
                    <a:pt x="1385" y="72"/>
                    <a:pt x="1395" y="93"/>
                  </a:cubicBezTo>
                  <a:cubicBezTo>
                    <a:pt x="1403" y="111"/>
                    <a:pt x="1462" y="119"/>
                    <a:pt x="1480" y="125"/>
                  </a:cubicBezTo>
                  <a:cubicBezTo>
                    <a:pt x="1478" y="156"/>
                    <a:pt x="1495" y="196"/>
                    <a:pt x="1473" y="218"/>
                  </a:cubicBezTo>
                  <a:cubicBezTo>
                    <a:pt x="1419" y="272"/>
                    <a:pt x="1381" y="194"/>
                    <a:pt x="1371" y="164"/>
                  </a:cubicBezTo>
                  <a:cubicBezTo>
                    <a:pt x="1384" y="87"/>
                    <a:pt x="1396" y="107"/>
                    <a:pt x="1473" y="117"/>
                  </a:cubicBezTo>
                  <a:cubicBezTo>
                    <a:pt x="1481" y="134"/>
                    <a:pt x="1493" y="190"/>
                    <a:pt x="1504" y="203"/>
                  </a:cubicBezTo>
                  <a:cubicBezTo>
                    <a:pt x="1541" y="247"/>
                    <a:pt x="1618" y="223"/>
                    <a:pt x="1675" y="226"/>
                  </a:cubicBezTo>
                  <a:cubicBezTo>
                    <a:pt x="1696" y="223"/>
                    <a:pt x="1719" y="228"/>
                    <a:pt x="1737" y="218"/>
                  </a:cubicBezTo>
                  <a:cubicBezTo>
                    <a:pt x="1744" y="214"/>
                    <a:pt x="1732" y="203"/>
                    <a:pt x="1730" y="195"/>
                  </a:cubicBezTo>
                  <a:cubicBezTo>
                    <a:pt x="1722" y="164"/>
                    <a:pt x="1712" y="133"/>
                    <a:pt x="1706" y="101"/>
                  </a:cubicBezTo>
                  <a:cubicBezTo>
                    <a:pt x="1704" y="88"/>
                    <a:pt x="1706" y="73"/>
                    <a:pt x="1699" y="62"/>
                  </a:cubicBezTo>
                  <a:cubicBezTo>
                    <a:pt x="1694" y="55"/>
                    <a:pt x="1683" y="57"/>
                    <a:pt x="1675" y="55"/>
                  </a:cubicBezTo>
                  <a:cubicBezTo>
                    <a:pt x="1662" y="60"/>
                    <a:pt x="1644" y="58"/>
                    <a:pt x="1636" y="70"/>
                  </a:cubicBezTo>
                  <a:cubicBezTo>
                    <a:pt x="1630" y="79"/>
                    <a:pt x="1642" y="90"/>
                    <a:pt x="1644" y="101"/>
                  </a:cubicBezTo>
                  <a:cubicBezTo>
                    <a:pt x="1648" y="124"/>
                    <a:pt x="1649" y="148"/>
                    <a:pt x="1652" y="171"/>
                  </a:cubicBezTo>
                  <a:cubicBezTo>
                    <a:pt x="1647" y="189"/>
                    <a:pt x="1653" y="218"/>
                    <a:pt x="1636" y="226"/>
                  </a:cubicBezTo>
                  <a:cubicBezTo>
                    <a:pt x="1610" y="238"/>
                    <a:pt x="1550" y="218"/>
                    <a:pt x="1550" y="218"/>
                  </a:cubicBezTo>
                </a:path>
              </a:pathLst>
            </a:custGeom>
            <a:noFill/>
            <a:ln w="19080">
              <a:solidFill>
                <a:srgbClr val="01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12720" y="222120"/>
              <a:ext cx="777960" cy="320760"/>
            </a:xfrm>
            <a:prstGeom prst="rightArrow">
              <a:avLst>
                <a:gd name="adj1" fmla="val 50000"/>
                <a:gd name="adj2" fmla="val 60634"/>
              </a:avLst>
            </a:prstGeom>
            <a:solidFill>
              <a:srgbClr val="ff993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10000"/>
                  </a:solidFill>
                  <a:latin typeface="Times New Roman"/>
                </a:rPr>
                <a:t>Ventilació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9280" y="101520"/>
              <a:ext cx="30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10000"/>
                  </a:solidFill>
                  <a:latin typeface="Arial"/>
                </a:rPr>
                <a:t>f </a:t>
              </a:r>
              <a:r>
                <a:rPr b="1" lang="es-CL" sz="2800" spc="-1" strike="noStrike">
                  <a:solidFill>
                    <a:srgbClr val="010000"/>
                  </a:solidFill>
                  <a:latin typeface="Arial"/>
                </a:rPr>
                <a:t>(                    )</a:t>
              </a:r>
              <a:endParaRPr b="0" lang="en-US" sz="2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476360" y="1690560"/>
            <a:ext cx="6337440" cy="2105280"/>
            <a:chOff x="1476360" y="1690560"/>
            <a:chExt cx="6337440" cy="2105280"/>
          </a:xfrm>
        </p:grpSpPr>
        <p:sp>
          <p:nvSpPr>
            <p:cNvPr id="98" name=""/>
            <p:cNvSpPr/>
            <p:nvPr/>
          </p:nvSpPr>
          <p:spPr>
            <a:xfrm>
              <a:off x="2332080" y="3203640"/>
              <a:ext cx="2674800" cy="144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029120" y="3792600"/>
              <a:ext cx="2036880" cy="324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0800" y="1690560"/>
              <a:ext cx="2500560" cy="1576440"/>
            </a:xfrm>
            <a:custGeom>
              <a:avLst/>
              <a:gdLst/>
              <a:ahLst/>
              <a:rect l="l" t="t" r="r" b="b"/>
              <a:pathLst>
                <a:path w="2774" h="1812">
                  <a:moveTo>
                    <a:pt x="101" y="1659"/>
                  </a:moveTo>
                  <a:cubicBezTo>
                    <a:pt x="205" y="1609"/>
                    <a:pt x="295" y="1462"/>
                    <a:pt x="366" y="1371"/>
                  </a:cubicBezTo>
                  <a:cubicBezTo>
                    <a:pt x="389" y="1311"/>
                    <a:pt x="416" y="1260"/>
                    <a:pt x="452" y="1207"/>
                  </a:cubicBezTo>
                  <a:cubicBezTo>
                    <a:pt x="460" y="1195"/>
                    <a:pt x="474" y="1188"/>
                    <a:pt x="483" y="1176"/>
                  </a:cubicBezTo>
                  <a:cubicBezTo>
                    <a:pt x="492" y="1164"/>
                    <a:pt x="496" y="1148"/>
                    <a:pt x="506" y="1137"/>
                  </a:cubicBezTo>
                  <a:cubicBezTo>
                    <a:pt x="564" y="1072"/>
                    <a:pt x="527" y="1140"/>
                    <a:pt x="576" y="1075"/>
                  </a:cubicBezTo>
                  <a:cubicBezTo>
                    <a:pt x="583" y="1066"/>
                    <a:pt x="585" y="1053"/>
                    <a:pt x="592" y="1044"/>
                  </a:cubicBezTo>
                  <a:cubicBezTo>
                    <a:pt x="598" y="1037"/>
                    <a:pt x="608" y="1034"/>
                    <a:pt x="615" y="1028"/>
                  </a:cubicBezTo>
                  <a:cubicBezTo>
                    <a:pt x="670" y="982"/>
                    <a:pt x="607" y="1030"/>
                    <a:pt x="662" y="974"/>
                  </a:cubicBezTo>
                  <a:cubicBezTo>
                    <a:pt x="723" y="912"/>
                    <a:pt x="670" y="984"/>
                    <a:pt x="709" y="927"/>
                  </a:cubicBezTo>
                  <a:cubicBezTo>
                    <a:pt x="696" y="863"/>
                    <a:pt x="687" y="817"/>
                    <a:pt x="701" y="748"/>
                  </a:cubicBezTo>
                  <a:cubicBezTo>
                    <a:pt x="707" y="717"/>
                    <a:pt x="756" y="681"/>
                    <a:pt x="779" y="662"/>
                  </a:cubicBezTo>
                  <a:cubicBezTo>
                    <a:pt x="817" y="630"/>
                    <a:pt x="843" y="584"/>
                    <a:pt x="872" y="545"/>
                  </a:cubicBezTo>
                  <a:cubicBezTo>
                    <a:pt x="902" y="430"/>
                    <a:pt x="915" y="362"/>
                    <a:pt x="1020" y="303"/>
                  </a:cubicBezTo>
                  <a:cubicBezTo>
                    <a:pt x="1048" y="287"/>
                    <a:pt x="1072" y="265"/>
                    <a:pt x="1098" y="249"/>
                  </a:cubicBezTo>
                  <a:cubicBezTo>
                    <a:pt x="1118" y="237"/>
                    <a:pt x="1161" y="218"/>
                    <a:pt x="1161" y="218"/>
                  </a:cubicBezTo>
                  <a:cubicBezTo>
                    <a:pt x="1173" y="186"/>
                    <a:pt x="1186" y="131"/>
                    <a:pt x="1215" y="109"/>
                  </a:cubicBezTo>
                  <a:cubicBezTo>
                    <a:pt x="1246" y="86"/>
                    <a:pt x="1274" y="55"/>
                    <a:pt x="1309" y="38"/>
                  </a:cubicBezTo>
                  <a:cubicBezTo>
                    <a:pt x="1340" y="23"/>
                    <a:pt x="1371" y="15"/>
                    <a:pt x="1402" y="0"/>
                  </a:cubicBezTo>
                  <a:cubicBezTo>
                    <a:pt x="1509" y="8"/>
                    <a:pt x="1587" y="33"/>
                    <a:pt x="1691" y="62"/>
                  </a:cubicBezTo>
                  <a:cubicBezTo>
                    <a:pt x="1744" y="94"/>
                    <a:pt x="1787" y="131"/>
                    <a:pt x="1839" y="163"/>
                  </a:cubicBezTo>
                  <a:cubicBezTo>
                    <a:pt x="1834" y="202"/>
                    <a:pt x="1832" y="242"/>
                    <a:pt x="1823" y="280"/>
                  </a:cubicBezTo>
                  <a:cubicBezTo>
                    <a:pt x="1821" y="289"/>
                    <a:pt x="1805" y="294"/>
                    <a:pt x="1807" y="303"/>
                  </a:cubicBezTo>
                  <a:cubicBezTo>
                    <a:pt x="1825" y="392"/>
                    <a:pt x="1943" y="427"/>
                    <a:pt x="1994" y="490"/>
                  </a:cubicBezTo>
                  <a:cubicBezTo>
                    <a:pt x="2043" y="551"/>
                    <a:pt x="2055" y="614"/>
                    <a:pt x="2080" y="685"/>
                  </a:cubicBezTo>
                  <a:cubicBezTo>
                    <a:pt x="2083" y="711"/>
                    <a:pt x="2070" y="745"/>
                    <a:pt x="2088" y="763"/>
                  </a:cubicBezTo>
                  <a:cubicBezTo>
                    <a:pt x="2106" y="781"/>
                    <a:pt x="2140" y="765"/>
                    <a:pt x="2166" y="771"/>
                  </a:cubicBezTo>
                  <a:cubicBezTo>
                    <a:pt x="2224" y="784"/>
                    <a:pt x="2267" y="841"/>
                    <a:pt x="2314" y="872"/>
                  </a:cubicBezTo>
                  <a:cubicBezTo>
                    <a:pt x="2317" y="885"/>
                    <a:pt x="2318" y="898"/>
                    <a:pt x="2322" y="911"/>
                  </a:cubicBezTo>
                  <a:cubicBezTo>
                    <a:pt x="2326" y="924"/>
                    <a:pt x="2333" y="937"/>
                    <a:pt x="2337" y="950"/>
                  </a:cubicBezTo>
                  <a:cubicBezTo>
                    <a:pt x="2366" y="1061"/>
                    <a:pt x="2336" y="995"/>
                    <a:pt x="2369" y="1059"/>
                  </a:cubicBezTo>
                  <a:cubicBezTo>
                    <a:pt x="2381" y="1112"/>
                    <a:pt x="2399" y="1154"/>
                    <a:pt x="2439" y="1192"/>
                  </a:cubicBezTo>
                  <a:cubicBezTo>
                    <a:pt x="2446" y="1223"/>
                    <a:pt x="2451" y="1255"/>
                    <a:pt x="2462" y="1285"/>
                  </a:cubicBezTo>
                  <a:cubicBezTo>
                    <a:pt x="2466" y="1319"/>
                    <a:pt x="2461" y="1357"/>
                    <a:pt x="2478" y="1387"/>
                  </a:cubicBezTo>
                  <a:cubicBezTo>
                    <a:pt x="2487" y="1403"/>
                    <a:pt x="2559" y="1451"/>
                    <a:pt x="2579" y="1465"/>
                  </a:cubicBezTo>
                  <a:cubicBezTo>
                    <a:pt x="2591" y="1522"/>
                    <a:pt x="2608" y="1607"/>
                    <a:pt x="2649" y="1652"/>
                  </a:cubicBezTo>
                  <a:cubicBezTo>
                    <a:pt x="2691" y="1698"/>
                    <a:pt x="2735" y="1735"/>
                    <a:pt x="2774" y="1784"/>
                  </a:cubicBezTo>
                  <a:cubicBezTo>
                    <a:pt x="2719" y="1812"/>
                    <a:pt x="2723" y="1781"/>
                    <a:pt x="2665" y="1769"/>
                  </a:cubicBezTo>
                  <a:cubicBezTo>
                    <a:pt x="2629" y="1762"/>
                    <a:pt x="2592" y="1758"/>
                    <a:pt x="2556" y="1753"/>
                  </a:cubicBezTo>
                  <a:cubicBezTo>
                    <a:pt x="2507" y="1733"/>
                    <a:pt x="2452" y="1719"/>
                    <a:pt x="2407" y="1691"/>
                  </a:cubicBezTo>
                  <a:cubicBezTo>
                    <a:pt x="2297" y="1696"/>
                    <a:pt x="2202" y="1706"/>
                    <a:pt x="2096" y="1722"/>
                  </a:cubicBezTo>
                  <a:cubicBezTo>
                    <a:pt x="1987" y="1714"/>
                    <a:pt x="1890" y="1723"/>
                    <a:pt x="1784" y="1737"/>
                  </a:cubicBezTo>
                  <a:cubicBezTo>
                    <a:pt x="1646" y="1735"/>
                    <a:pt x="1507" y="1752"/>
                    <a:pt x="1371" y="1730"/>
                  </a:cubicBezTo>
                  <a:cubicBezTo>
                    <a:pt x="1350" y="1727"/>
                    <a:pt x="1375" y="1675"/>
                    <a:pt x="1355" y="1667"/>
                  </a:cubicBezTo>
                  <a:cubicBezTo>
                    <a:pt x="1314" y="1652"/>
                    <a:pt x="1267" y="1672"/>
                    <a:pt x="1223" y="1675"/>
                  </a:cubicBezTo>
                  <a:cubicBezTo>
                    <a:pt x="1116" y="1719"/>
                    <a:pt x="1004" y="1702"/>
                    <a:pt x="888" y="1706"/>
                  </a:cubicBezTo>
                  <a:cubicBezTo>
                    <a:pt x="846" y="1720"/>
                    <a:pt x="805" y="1725"/>
                    <a:pt x="763" y="1737"/>
                  </a:cubicBezTo>
                  <a:cubicBezTo>
                    <a:pt x="609" y="1732"/>
                    <a:pt x="561" y="1735"/>
                    <a:pt x="420" y="1714"/>
                  </a:cubicBezTo>
                  <a:cubicBezTo>
                    <a:pt x="278" y="1693"/>
                    <a:pt x="143" y="1655"/>
                    <a:pt x="0" y="1644"/>
                  </a:cubicBezTo>
                  <a:cubicBezTo>
                    <a:pt x="5" y="1652"/>
                    <a:pt x="7" y="1662"/>
                    <a:pt x="15" y="1667"/>
                  </a:cubicBezTo>
                  <a:cubicBezTo>
                    <a:pt x="27" y="1674"/>
                    <a:pt x="42" y="1670"/>
                    <a:pt x="54" y="1675"/>
                  </a:cubicBezTo>
                  <a:cubicBezTo>
                    <a:pt x="74" y="1683"/>
                    <a:pt x="90" y="1697"/>
                    <a:pt x="109" y="1706"/>
                  </a:cubicBezTo>
                  <a:cubicBezTo>
                    <a:pt x="137" y="1696"/>
                    <a:pt x="143" y="1680"/>
                    <a:pt x="163" y="1659"/>
                  </a:cubicBezTo>
                </a:path>
              </a:pathLst>
            </a:custGeom>
            <a:noFill/>
            <a:ln w="9360">
              <a:solidFill>
                <a:srgbClr val="01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06800" y="2066760"/>
              <a:ext cx="1571760" cy="951120"/>
            </a:xfrm>
            <a:custGeom>
              <a:avLst/>
              <a:gdLst/>
              <a:ahLst/>
              <a:rect l="l" t="t" r="r" b="b"/>
              <a:pathLst>
                <a:path w="1744" h="1094">
                  <a:moveTo>
                    <a:pt x="46" y="1060"/>
                  </a:moveTo>
                  <a:cubicBezTo>
                    <a:pt x="57" y="1016"/>
                    <a:pt x="82" y="997"/>
                    <a:pt x="124" y="982"/>
                  </a:cubicBezTo>
                  <a:cubicBezTo>
                    <a:pt x="173" y="992"/>
                    <a:pt x="193" y="1010"/>
                    <a:pt x="156" y="1068"/>
                  </a:cubicBezTo>
                  <a:cubicBezTo>
                    <a:pt x="146" y="1084"/>
                    <a:pt x="119" y="1078"/>
                    <a:pt x="101" y="1083"/>
                  </a:cubicBezTo>
                  <a:cubicBezTo>
                    <a:pt x="27" y="1064"/>
                    <a:pt x="59" y="1076"/>
                    <a:pt x="202" y="1068"/>
                  </a:cubicBezTo>
                  <a:cubicBezTo>
                    <a:pt x="279" y="1042"/>
                    <a:pt x="233" y="1053"/>
                    <a:pt x="343" y="1044"/>
                  </a:cubicBezTo>
                  <a:cubicBezTo>
                    <a:pt x="374" y="1036"/>
                    <a:pt x="404" y="1027"/>
                    <a:pt x="436" y="1021"/>
                  </a:cubicBezTo>
                  <a:cubicBezTo>
                    <a:pt x="578" y="1027"/>
                    <a:pt x="693" y="1037"/>
                    <a:pt x="834" y="1044"/>
                  </a:cubicBezTo>
                  <a:cubicBezTo>
                    <a:pt x="852" y="1054"/>
                    <a:pt x="867" y="1073"/>
                    <a:pt x="888" y="1075"/>
                  </a:cubicBezTo>
                  <a:cubicBezTo>
                    <a:pt x="904" y="1077"/>
                    <a:pt x="919" y="1070"/>
                    <a:pt x="935" y="1068"/>
                  </a:cubicBezTo>
                  <a:cubicBezTo>
                    <a:pt x="1015" y="1060"/>
                    <a:pt x="1105" y="1056"/>
                    <a:pt x="1184" y="1052"/>
                  </a:cubicBezTo>
                  <a:cubicBezTo>
                    <a:pt x="1270" y="1041"/>
                    <a:pt x="1356" y="1040"/>
                    <a:pt x="1441" y="1029"/>
                  </a:cubicBezTo>
                  <a:cubicBezTo>
                    <a:pt x="1427" y="816"/>
                    <a:pt x="1471" y="928"/>
                    <a:pt x="1130" y="912"/>
                  </a:cubicBezTo>
                  <a:cubicBezTo>
                    <a:pt x="1100" y="911"/>
                    <a:pt x="1044" y="888"/>
                    <a:pt x="1044" y="888"/>
                  </a:cubicBezTo>
                  <a:cubicBezTo>
                    <a:pt x="782" y="896"/>
                    <a:pt x="530" y="915"/>
                    <a:pt x="265" y="920"/>
                  </a:cubicBezTo>
                  <a:cubicBezTo>
                    <a:pt x="221" y="933"/>
                    <a:pt x="178" y="943"/>
                    <a:pt x="132" y="951"/>
                  </a:cubicBezTo>
                  <a:cubicBezTo>
                    <a:pt x="116" y="956"/>
                    <a:pt x="85" y="950"/>
                    <a:pt x="85" y="966"/>
                  </a:cubicBezTo>
                  <a:cubicBezTo>
                    <a:pt x="85" y="974"/>
                    <a:pt x="101" y="973"/>
                    <a:pt x="109" y="974"/>
                  </a:cubicBezTo>
                  <a:cubicBezTo>
                    <a:pt x="135" y="978"/>
                    <a:pt x="161" y="979"/>
                    <a:pt x="187" y="982"/>
                  </a:cubicBezTo>
                  <a:cubicBezTo>
                    <a:pt x="184" y="1005"/>
                    <a:pt x="188" y="1030"/>
                    <a:pt x="179" y="1052"/>
                  </a:cubicBezTo>
                  <a:cubicBezTo>
                    <a:pt x="178" y="1055"/>
                    <a:pt x="111" y="1072"/>
                    <a:pt x="101" y="1075"/>
                  </a:cubicBezTo>
                  <a:cubicBezTo>
                    <a:pt x="85" y="1080"/>
                    <a:pt x="54" y="1091"/>
                    <a:pt x="54" y="1091"/>
                  </a:cubicBezTo>
                  <a:cubicBezTo>
                    <a:pt x="41" y="1088"/>
                    <a:pt x="22" y="1094"/>
                    <a:pt x="15" y="1083"/>
                  </a:cubicBezTo>
                  <a:cubicBezTo>
                    <a:pt x="0" y="1061"/>
                    <a:pt x="37" y="1014"/>
                    <a:pt x="54" y="1005"/>
                  </a:cubicBezTo>
                  <a:cubicBezTo>
                    <a:pt x="106" y="980"/>
                    <a:pt x="172" y="982"/>
                    <a:pt x="226" y="959"/>
                  </a:cubicBezTo>
                  <a:cubicBezTo>
                    <a:pt x="285" y="934"/>
                    <a:pt x="301" y="905"/>
                    <a:pt x="366" y="888"/>
                  </a:cubicBezTo>
                  <a:cubicBezTo>
                    <a:pt x="467" y="890"/>
                    <a:pt x="741" y="926"/>
                    <a:pt x="888" y="888"/>
                  </a:cubicBezTo>
                  <a:cubicBezTo>
                    <a:pt x="1032" y="894"/>
                    <a:pt x="1159" y="912"/>
                    <a:pt x="1301" y="920"/>
                  </a:cubicBezTo>
                  <a:cubicBezTo>
                    <a:pt x="1409" y="913"/>
                    <a:pt x="1535" y="934"/>
                    <a:pt x="1628" y="873"/>
                  </a:cubicBezTo>
                  <a:cubicBezTo>
                    <a:pt x="1640" y="826"/>
                    <a:pt x="1623" y="767"/>
                    <a:pt x="1566" y="764"/>
                  </a:cubicBezTo>
                  <a:cubicBezTo>
                    <a:pt x="1436" y="757"/>
                    <a:pt x="1306" y="759"/>
                    <a:pt x="1176" y="756"/>
                  </a:cubicBezTo>
                  <a:cubicBezTo>
                    <a:pt x="1166" y="751"/>
                    <a:pt x="1155" y="746"/>
                    <a:pt x="1145" y="740"/>
                  </a:cubicBezTo>
                  <a:cubicBezTo>
                    <a:pt x="1137" y="735"/>
                    <a:pt x="1119" y="733"/>
                    <a:pt x="1122" y="725"/>
                  </a:cubicBezTo>
                  <a:cubicBezTo>
                    <a:pt x="1135" y="693"/>
                    <a:pt x="1216" y="695"/>
                    <a:pt x="1231" y="694"/>
                  </a:cubicBezTo>
                  <a:cubicBezTo>
                    <a:pt x="1308" y="674"/>
                    <a:pt x="1388" y="684"/>
                    <a:pt x="1465" y="701"/>
                  </a:cubicBezTo>
                  <a:cubicBezTo>
                    <a:pt x="1510" y="694"/>
                    <a:pt x="1509" y="704"/>
                    <a:pt x="1535" y="670"/>
                  </a:cubicBezTo>
                  <a:cubicBezTo>
                    <a:pt x="1546" y="655"/>
                    <a:pt x="1566" y="623"/>
                    <a:pt x="1566" y="623"/>
                  </a:cubicBezTo>
                  <a:cubicBezTo>
                    <a:pt x="1422" y="482"/>
                    <a:pt x="1307" y="528"/>
                    <a:pt x="1083" y="522"/>
                  </a:cubicBezTo>
                  <a:cubicBezTo>
                    <a:pt x="1101" y="471"/>
                    <a:pt x="1213" y="463"/>
                    <a:pt x="1262" y="460"/>
                  </a:cubicBezTo>
                  <a:cubicBezTo>
                    <a:pt x="1343" y="456"/>
                    <a:pt x="1423" y="455"/>
                    <a:pt x="1504" y="452"/>
                  </a:cubicBezTo>
                  <a:cubicBezTo>
                    <a:pt x="1496" y="322"/>
                    <a:pt x="1521" y="322"/>
                    <a:pt x="1418" y="304"/>
                  </a:cubicBezTo>
                  <a:cubicBezTo>
                    <a:pt x="1304" y="309"/>
                    <a:pt x="1243" y="310"/>
                    <a:pt x="1145" y="335"/>
                  </a:cubicBezTo>
                  <a:cubicBezTo>
                    <a:pt x="1132" y="327"/>
                    <a:pt x="1111" y="326"/>
                    <a:pt x="1106" y="312"/>
                  </a:cubicBezTo>
                  <a:cubicBezTo>
                    <a:pt x="1103" y="303"/>
                    <a:pt x="1122" y="301"/>
                    <a:pt x="1130" y="296"/>
                  </a:cubicBezTo>
                  <a:cubicBezTo>
                    <a:pt x="1150" y="285"/>
                    <a:pt x="1169" y="267"/>
                    <a:pt x="1192" y="265"/>
                  </a:cubicBezTo>
                  <a:cubicBezTo>
                    <a:pt x="1253" y="259"/>
                    <a:pt x="1311" y="252"/>
                    <a:pt x="1371" y="242"/>
                  </a:cubicBezTo>
                  <a:cubicBezTo>
                    <a:pt x="1389" y="239"/>
                    <a:pt x="1408" y="238"/>
                    <a:pt x="1426" y="234"/>
                  </a:cubicBezTo>
                  <a:cubicBezTo>
                    <a:pt x="1447" y="230"/>
                    <a:pt x="1488" y="218"/>
                    <a:pt x="1488" y="218"/>
                  </a:cubicBezTo>
                  <a:cubicBezTo>
                    <a:pt x="1434" y="178"/>
                    <a:pt x="1375" y="146"/>
                    <a:pt x="1309" y="132"/>
                  </a:cubicBezTo>
                  <a:cubicBezTo>
                    <a:pt x="1272" y="114"/>
                    <a:pt x="1241" y="108"/>
                    <a:pt x="1200" y="101"/>
                  </a:cubicBezTo>
                  <a:cubicBezTo>
                    <a:pt x="1171" y="103"/>
                    <a:pt x="1026" y="112"/>
                    <a:pt x="989" y="117"/>
                  </a:cubicBezTo>
                  <a:cubicBezTo>
                    <a:pt x="962" y="120"/>
                    <a:pt x="938" y="138"/>
                    <a:pt x="911" y="140"/>
                  </a:cubicBezTo>
                  <a:cubicBezTo>
                    <a:pt x="691" y="158"/>
                    <a:pt x="782" y="149"/>
                    <a:pt x="639" y="164"/>
                  </a:cubicBezTo>
                  <a:cubicBezTo>
                    <a:pt x="616" y="161"/>
                    <a:pt x="590" y="167"/>
                    <a:pt x="569" y="156"/>
                  </a:cubicBezTo>
                  <a:cubicBezTo>
                    <a:pt x="562" y="152"/>
                    <a:pt x="574" y="140"/>
                    <a:pt x="576" y="132"/>
                  </a:cubicBezTo>
                  <a:cubicBezTo>
                    <a:pt x="587" y="90"/>
                    <a:pt x="601" y="90"/>
                    <a:pt x="639" y="70"/>
                  </a:cubicBezTo>
                  <a:cubicBezTo>
                    <a:pt x="718" y="79"/>
                    <a:pt x="707" y="66"/>
                    <a:pt x="724" y="125"/>
                  </a:cubicBezTo>
                  <a:cubicBezTo>
                    <a:pt x="722" y="138"/>
                    <a:pt x="730" y="161"/>
                    <a:pt x="717" y="164"/>
                  </a:cubicBezTo>
                  <a:cubicBezTo>
                    <a:pt x="612" y="192"/>
                    <a:pt x="617" y="182"/>
                    <a:pt x="600" y="132"/>
                  </a:cubicBezTo>
                  <a:cubicBezTo>
                    <a:pt x="629" y="47"/>
                    <a:pt x="598" y="115"/>
                    <a:pt x="802" y="101"/>
                  </a:cubicBezTo>
                  <a:cubicBezTo>
                    <a:pt x="876" y="96"/>
                    <a:pt x="950" y="83"/>
                    <a:pt x="1021" y="62"/>
                  </a:cubicBezTo>
                  <a:cubicBezTo>
                    <a:pt x="1069" y="31"/>
                    <a:pt x="1120" y="22"/>
                    <a:pt x="1176" y="16"/>
                  </a:cubicBezTo>
                  <a:cubicBezTo>
                    <a:pt x="1246" y="18"/>
                    <a:pt x="1321" y="0"/>
                    <a:pt x="1387" y="23"/>
                  </a:cubicBezTo>
                  <a:cubicBezTo>
                    <a:pt x="1409" y="31"/>
                    <a:pt x="1385" y="72"/>
                    <a:pt x="1395" y="93"/>
                  </a:cubicBezTo>
                  <a:cubicBezTo>
                    <a:pt x="1403" y="111"/>
                    <a:pt x="1462" y="119"/>
                    <a:pt x="1480" y="125"/>
                  </a:cubicBezTo>
                  <a:cubicBezTo>
                    <a:pt x="1478" y="156"/>
                    <a:pt x="1495" y="196"/>
                    <a:pt x="1473" y="218"/>
                  </a:cubicBezTo>
                  <a:cubicBezTo>
                    <a:pt x="1419" y="272"/>
                    <a:pt x="1381" y="194"/>
                    <a:pt x="1371" y="164"/>
                  </a:cubicBezTo>
                  <a:cubicBezTo>
                    <a:pt x="1384" y="87"/>
                    <a:pt x="1396" y="107"/>
                    <a:pt x="1473" y="117"/>
                  </a:cubicBezTo>
                  <a:cubicBezTo>
                    <a:pt x="1481" y="134"/>
                    <a:pt x="1493" y="190"/>
                    <a:pt x="1504" y="203"/>
                  </a:cubicBezTo>
                  <a:cubicBezTo>
                    <a:pt x="1541" y="247"/>
                    <a:pt x="1618" y="223"/>
                    <a:pt x="1675" y="226"/>
                  </a:cubicBezTo>
                  <a:cubicBezTo>
                    <a:pt x="1696" y="223"/>
                    <a:pt x="1719" y="228"/>
                    <a:pt x="1737" y="218"/>
                  </a:cubicBezTo>
                  <a:cubicBezTo>
                    <a:pt x="1744" y="214"/>
                    <a:pt x="1732" y="203"/>
                    <a:pt x="1730" y="195"/>
                  </a:cubicBezTo>
                  <a:cubicBezTo>
                    <a:pt x="1722" y="164"/>
                    <a:pt x="1712" y="133"/>
                    <a:pt x="1706" y="101"/>
                  </a:cubicBezTo>
                  <a:cubicBezTo>
                    <a:pt x="1704" y="88"/>
                    <a:pt x="1706" y="73"/>
                    <a:pt x="1699" y="62"/>
                  </a:cubicBezTo>
                  <a:cubicBezTo>
                    <a:pt x="1694" y="55"/>
                    <a:pt x="1683" y="57"/>
                    <a:pt x="1675" y="55"/>
                  </a:cubicBezTo>
                  <a:cubicBezTo>
                    <a:pt x="1662" y="60"/>
                    <a:pt x="1644" y="58"/>
                    <a:pt x="1636" y="70"/>
                  </a:cubicBezTo>
                  <a:cubicBezTo>
                    <a:pt x="1630" y="79"/>
                    <a:pt x="1642" y="90"/>
                    <a:pt x="1644" y="101"/>
                  </a:cubicBezTo>
                  <a:cubicBezTo>
                    <a:pt x="1648" y="124"/>
                    <a:pt x="1649" y="148"/>
                    <a:pt x="1652" y="171"/>
                  </a:cubicBezTo>
                  <a:cubicBezTo>
                    <a:pt x="1647" y="189"/>
                    <a:pt x="1653" y="218"/>
                    <a:pt x="1636" y="226"/>
                  </a:cubicBezTo>
                  <a:cubicBezTo>
                    <a:pt x="1610" y="238"/>
                    <a:pt x="1550" y="218"/>
                    <a:pt x="1550" y="218"/>
                  </a:cubicBezTo>
                </a:path>
              </a:pathLst>
            </a:custGeom>
            <a:noFill/>
            <a:ln w="19080">
              <a:solidFill>
                <a:srgbClr val="01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97240" y="2066760"/>
              <a:ext cx="1557360" cy="1001880"/>
            </a:xfrm>
            <a:prstGeom prst="rightArrow">
              <a:avLst>
                <a:gd name="adj1" fmla="val 50000"/>
                <a:gd name="adj2" fmla="val 38861"/>
              </a:avLst>
            </a:prstGeom>
            <a:solidFill>
              <a:srgbClr val="ff993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Times New Roman"/>
                </a:rPr>
                <a:t>Ventilación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76360" y="1700280"/>
              <a:ext cx="6337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9600" spc="-1" strike="noStrike">
                  <a:solidFill>
                    <a:srgbClr val="010000"/>
                  </a:solidFill>
                  <a:latin typeface="Arial"/>
                </a:rPr>
                <a:t>f(            )</a:t>
              </a:r>
              <a:endParaRPr b="0" lang="en-US" sz="9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2340000" y="4221000"/>
            <a:ext cx="4319640" cy="1099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600" spc="-1" strike="noStrike">
                <a:solidFill>
                  <a:srgbClr val="010000"/>
                </a:solidFill>
                <a:latin typeface="Arial"/>
              </a:rPr>
              <a:t>H = R * Q</a:t>
            </a:r>
            <a:r>
              <a:rPr b="0" lang="es-CL" sz="6600" spc="-1" strike="noStrike" baseline="30000">
                <a:solidFill>
                  <a:srgbClr val="01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651672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VENTILACION NATURAL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000" y="1066320"/>
            <a:ext cx="849636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n un diagrama H-Q la ventilación natural se representa por una línea horizonta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916360" y="2491920"/>
            <a:ext cx="0" cy="3529080"/>
          </a:xfrm>
          <a:prstGeom prst="line">
            <a:avLst/>
          </a:prstGeom>
          <a:ln w="1908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916360" y="6021360"/>
            <a:ext cx="3456000" cy="0"/>
          </a:xfrm>
          <a:prstGeom prst="line">
            <a:avLst/>
          </a:prstGeom>
          <a:ln w="381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156360" y="6021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124000" y="24210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16360" y="4221000"/>
            <a:ext cx="223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48360" y="4221000"/>
            <a:ext cx="0" cy="180036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21040" y="3070080"/>
            <a:ext cx="3060720" cy="2936880"/>
          </a:xfrm>
          <a:custGeom>
            <a:avLst/>
            <a:gdLst/>
            <a:ahLst/>
            <a:rect l="l" t="t" r="r" b="b"/>
            <a:pathLst>
              <a:path w="1928" h="1850">
                <a:moveTo>
                  <a:pt x="0" y="1850"/>
                </a:moveTo>
                <a:cubicBezTo>
                  <a:pt x="40" y="1844"/>
                  <a:pt x="108" y="1842"/>
                  <a:pt x="144" y="1818"/>
                </a:cubicBezTo>
                <a:cubicBezTo>
                  <a:pt x="179" y="1795"/>
                  <a:pt x="205" y="1779"/>
                  <a:pt x="240" y="1762"/>
                </a:cubicBezTo>
                <a:cubicBezTo>
                  <a:pt x="268" y="1748"/>
                  <a:pt x="286" y="1723"/>
                  <a:pt x="312" y="1706"/>
                </a:cubicBezTo>
                <a:cubicBezTo>
                  <a:pt x="358" y="1637"/>
                  <a:pt x="297" y="1718"/>
                  <a:pt x="352" y="1674"/>
                </a:cubicBezTo>
                <a:cubicBezTo>
                  <a:pt x="404" y="1633"/>
                  <a:pt x="332" y="1662"/>
                  <a:pt x="392" y="1642"/>
                </a:cubicBezTo>
                <a:cubicBezTo>
                  <a:pt x="428" y="1606"/>
                  <a:pt x="511" y="1530"/>
                  <a:pt x="560" y="1514"/>
                </a:cubicBezTo>
                <a:cubicBezTo>
                  <a:pt x="589" y="1485"/>
                  <a:pt x="625" y="1463"/>
                  <a:pt x="664" y="1450"/>
                </a:cubicBezTo>
                <a:cubicBezTo>
                  <a:pt x="702" y="1394"/>
                  <a:pt x="798" y="1361"/>
                  <a:pt x="856" y="1322"/>
                </a:cubicBezTo>
                <a:cubicBezTo>
                  <a:pt x="887" y="1275"/>
                  <a:pt x="950" y="1269"/>
                  <a:pt x="992" y="1234"/>
                </a:cubicBezTo>
                <a:cubicBezTo>
                  <a:pt x="1001" y="1227"/>
                  <a:pt x="1007" y="1217"/>
                  <a:pt x="1016" y="1210"/>
                </a:cubicBezTo>
                <a:cubicBezTo>
                  <a:pt x="1031" y="1198"/>
                  <a:pt x="1064" y="1178"/>
                  <a:pt x="1064" y="1178"/>
                </a:cubicBezTo>
                <a:cubicBezTo>
                  <a:pt x="1080" y="1131"/>
                  <a:pt x="1124" y="1129"/>
                  <a:pt x="1152" y="1082"/>
                </a:cubicBezTo>
                <a:cubicBezTo>
                  <a:pt x="1181" y="1034"/>
                  <a:pt x="1163" y="1051"/>
                  <a:pt x="1200" y="1026"/>
                </a:cubicBezTo>
                <a:cubicBezTo>
                  <a:pt x="1278" y="909"/>
                  <a:pt x="1362" y="799"/>
                  <a:pt x="1440" y="682"/>
                </a:cubicBezTo>
                <a:cubicBezTo>
                  <a:pt x="1448" y="669"/>
                  <a:pt x="1463" y="662"/>
                  <a:pt x="1472" y="650"/>
                </a:cubicBezTo>
                <a:cubicBezTo>
                  <a:pt x="1527" y="576"/>
                  <a:pt x="1454" y="659"/>
                  <a:pt x="1496" y="586"/>
                </a:cubicBezTo>
                <a:cubicBezTo>
                  <a:pt x="1509" y="563"/>
                  <a:pt x="1544" y="522"/>
                  <a:pt x="1544" y="522"/>
                </a:cubicBezTo>
                <a:cubicBezTo>
                  <a:pt x="1561" y="472"/>
                  <a:pt x="1587" y="416"/>
                  <a:pt x="1632" y="386"/>
                </a:cubicBezTo>
                <a:cubicBezTo>
                  <a:pt x="1665" y="337"/>
                  <a:pt x="1685" y="284"/>
                  <a:pt x="1736" y="250"/>
                </a:cubicBezTo>
                <a:cubicBezTo>
                  <a:pt x="1761" y="212"/>
                  <a:pt x="1772" y="186"/>
                  <a:pt x="1808" y="162"/>
                </a:cubicBezTo>
                <a:cubicBezTo>
                  <a:pt x="1845" y="106"/>
                  <a:pt x="1824" y="125"/>
                  <a:pt x="1864" y="98"/>
                </a:cubicBezTo>
                <a:cubicBezTo>
                  <a:pt x="1880" y="74"/>
                  <a:pt x="1903" y="53"/>
                  <a:pt x="1912" y="26"/>
                </a:cubicBezTo>
                <a:cubicBezTo>
                  <a:pt x="1915" y="18"/>
                  <a:pt x="1915" y="9"/>
                  <a:pt x="1920" y="2"/>
                </a:cubicBezTo>
                <a:cubicBezTo>
                  <a:pt x="1921" y="0"/>
                  <a:pt x="1925" y="2"/>
                  <a:pt x="1928" y="2"/>
                </a:cubicBezTo>
              </a:path>
            </a:pathLst>
          </a:custGeom>
          <a:noFill/>
          <a:ln w="1908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003640" y="6021360"/>
            <a:ext cx="505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Q </a:t>
            </a:r>
            <a:r>
              <a:rPr b="1" lang="es-CL" sz="1600" spc="-1" strike="noStrike" baseline="-25000">
                <a:solidFill>
                  <a:srgbClr val="01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68360" y="4076640"/>
            <a:ext cx="505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H </a:t>
            </a:r>
            <a:r>
              <a:rPr b="1" lang="es-CL" sz="1600" spc="-1" strike="noStrike" baseline="-25000">
                <a:solidFill>
                  <a:srgbClr val="01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651672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VENTILACION NATURAL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grpSp>
        <p:nvGrpSpPr>
          <p:cNvPr id="257" name=""/>
          <p:cNvGrpSpPr/>
          <p:nvPr/>
        </p:nvGrpSpPr>
        <p:grpSpPr>
          <a:xfrm>
            <a:off x="611280" y="692280"/>
            <a:ext cx="3816000" cy="3366000"/>
            <a:chOff x="611280" y="692280"/>
            <a:chExt cx="3816000" cy="3366000"/>
          </a:xfrm>
        </p:grpSpPr>
        <p:sp>
          <p:nvSpPr>
            <p:cNvPr id="258" name=""/>
            <p:cNvSpPr/>
            <p:nvPr/>
          </p:nvSpPr>
          <p:spPr>
            <a:xfrm flipV="1">
              <a:off x="1288440" y="752040"/>
              <a:ext cx="0" cy="296856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88440" y="3720960"/>
              <a:ext cx="2954160" cy="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88440" y="1418760"/>
              <a:ext cx="1477800" cy="0"/>
            </a:xfrm>
            <a:prstGeom prst="line">
              <a:avLst/>
            </a:prstGeom>
            <a:ln w="9360">
              <a:solidFill>
                <a:srgbClr val="01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88440" y="2629800"/>
              <a:ext cx="1846800" cy="0"/>
            </a:xfrm>
            <a:prstGeom prst="line">
              <a:avLst/>
            </a:prstGeom>
            <a:ln w="9360">
              <a:solidFill>
                <a:srgbClr val="01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288440" y="3174840"/>
              <a:ext cx="2154600" cy="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703960" y="1418760"/>
              <a:ext cx="707040" cy="1760040"/>
            </a:xfrm>
            <a:custGeom>
              <a:avLst/>
              <a:gdLst/>
              <a:ahLst/>
              <a:rect l="l" t="t" r="r" b="b"/>
              <a:pathLst>
                <a:path w="472" h="896">
                  <a:moveTo>
                    <a:pt x="0" y="0"/>
                  </a:moveTo>
                  <a:cubicBezTo>
                    <a:pt x="37" y="37"/>
                    <a:pt x="35" y="83"/>
                    <a:pt x="72" y="120"/>
                  </a:cubicBezTo>
                  <a:cubicBezTo>
                    <a:pt x="92" y="180"/>
                    <a:pt x="119" y="231"/>
                    <a:pt x="144" y="288"/>
                  </a:cubicBezTo>
                  <a:cubicBezTo>
                    <a:pt x="160" y="325"/>
                    <a:pt x="163" y="352"/>
                    <a:pt x="184" y="384"/>
                  </a:cubicBezTo>
                  <a:cubicBezTo>
                    <a:pt x="203" y="478"/>
                    <a:pt x="251" y="532"/>
                    <a:pt x="288" y="616"/>
                  </a:cubicBezTo>
                  <a:cubicBezTo>
                    <a:pt x="307" y="659"/>
                    <a:pt x="312" y="701"/>
                    <a:pt x="352" y="728"/>
                  </a:cubicBezTo>
                  <a:cubicBezTo>
                    <a:pt x="370" y="782"/>
                    <a:pt x="345" y="723"/>
                    <a:pt x="384" y="768"/>
                  </a:cubicBezTo>
                  <a:cubicBezTo>
                    <a:pt x="418" y="807"/>
                    <a:pt x="425" y="872"/>
                    <a:pt x="472" y="896"/>
                  </a:cubicBezTo>
                </a:path>
              </a:pathLst>
            </a:custGeom>
            <a:noFill/>
            <a:ln w="9360">
              <a:solidFill>
                <a:srgbClr val="01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904400" y="1418760"/>
              <a:ext cx="762480" cy="1741320"/>
            </a:xfrm>
            <a:custGeom>
              <a:avLst/>
              <a:gdLst/>
              <a:ahLst/>
              <a:rect l="l" t="t" r="r" b="b"/>
              <a:pathLst>
                <a:path w="472" h="896">
                  <a:moveTo>
                    <a:pt x="0" y="0"/>
                  </a:moveTo>
                  <a:cubicBezTo>
                    <a:pt x="37" y="37"/>
                    <a:pt x="35" y="83"/>
                    <a:pt x="72" y="120"/>
                  </a:cubicBezTo>
                  <a:cubicBezTo>
                    <a:pt x="92" y="180"/>
                    <a:pt x="119" y="231"/>
                    <a:pt x="144" y="288"/>
                  </a:cubicBezTo>
                  <a:cubicBezTo>
                    <a:pt x="160" y="325"/>
                    <a:pt x="163" y="352"/>
                    <a:pt x="184" y="384"/>
                  </a:cubicBezTo>
                  <a:cubicBezTo>
                    <a:pt x="203" y="478"/>
                    <a:pt x="251" y="532"/>
                    <a:pt x="288" y="616"/>
                  </a:cubicBezTo>
                  <a:cubicBezTo>
                    <a:pt x="307" y="659"/>
                    <a:pt x="312" y="701"/>
                    <a:pt x="352" y="728"/>
                  </a:cubicBezTo>
                  <a:cubicBezTo>
                    <a:pt x="370" y="782"/>
                    <a:pt x="345" y="723"/>
                    <a:pt x="384" y="768"/>
                  </a:cubicBezTo>
                  <a:cubicBezTo>
                    <a:pt x="418" y="807"/>
                    <a:pt x="425" y="872"/>
                    <a:pt x="472" y="896"/>
                  </a:cubicBezTo>
                </a:path>
              </a:pathLst>
            </a:custGeom>
            <a:noFill/>
            <a:ln w="9360">
              <a:solidFill>
                <a:srgbClr val="01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766240" y="1176840"/>
              <a:ext cx="49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000"/>
                  </a:solidFill>
                  <a:latin typeface="Arial"/>
                </a:rPr>
                <a:t>(3)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395800" y="3054600"/>
              <a:ext cx="36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196440" y="2569680"/>
              <a:ext cx="61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000"/>
                  </a:solidFill>
                  <a:latin typeface="Arial"/>
                </a:rPr>
                <a:t>(4)´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43400" y="2994480"/>
              <a:ext cx="36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81280" y="1115640"/>
              <a:ext cx="43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10000"/>
                  </a:solidFill>
                  <a:latin typeface="Arial"/>
                </a:rPr>
                <a:t>(2)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57160" y="2994480"/>
              <a:ext cx="36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1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57160" y="2569680"/>
              <a:ext cx="368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10000"/>
                  </a:solidFill>
                  <a:latin typeface="Arial"/>
                </a:rPr>
                <a:t>(c)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58240" y="1236960"/>
              <a:ext cx="43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10000"/>
                  </a:solidFill>
                  <a:latin typeface="Arial"/>
                </a:rPr>
                <a:t>(b)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288440" y="2872800"/>
              <a:ext cx="18468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288440" y="1963440"/>
              <a:ext cx="14151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03960" y="1963440"/>
              <a:ext cx="698760" cy="1217880"/>
            </a:xfrm>
            <a:custGeom>
              <a:avLst/>
              <a:gdLst/>
              <a:ahLst/>
              <a:rect l="l" t="t" r="r" b="b"/>
              <a:pathLst>
                <a:path w="880" h="1072">
                  <a:moveTo>
                    <a:pt x="880" y="1072"/>
                  </a:moveTo>
                  <a:cubicBezTo>
                    <a:pt x="854" y="1055"/>
                    <a:pt x="842" y="1033"/>
                    <a:pt x="816" y="1016"/>
                  </a:cubicBezTo>
                  <a:cubicBezTo>
                    <a:pt x="811" y="1008"/>
                    <a:pt x="807" y="999"/>
                    <a:pt x="800" y="992"/>
                  </a:cubicBezTo>
                  <a:cubicBezTo>
                    <a:pt x="793" y="985"/>
                    <a:pt x="782" y="984"/>
                    <a:pt x="776" y="976"/>
                  </a:cubicBezTo>
                  <a:cubicBezTo>
                    <a:pt x="771" y="969"/>
                    <a:pt x="772" y="960"/>
                    <a:pt x="768" y="952"/>
                  </a:cubicBezTo>
                  <a:cubicBezTo>
                    <a:pt x="751" y="918"/>
                    <a:pt x="755" y="935"/>
                    <a:pt x="728" y="912"/>
                  </a:cubicBezTo>
                  <a:cubicBezTo>
                    <a:pt x="719" y="905"/>
                    <a:pt x="713" y="895"/>
                    <a:pt x="704" y="888"/>
                  </a:cubicBezTo>
                  <a:cubicBezTo>
                    <a:pt x="689" y="876"/>
                    <a:pt x="656" y="856"/>
                    <a:pt x="656" y="856"/>
                  </a:cubicBezTo>
                  <a:cubicBezTo>
                    <a:pt x="636" y="825"/>
                    <a:pt x="611" y="823"/>
                    <a:pt x="584" y="800"/>
                  </a:cubicBezTo>
                  <a:cubicBezTo>
                    <a:pt x="545" y="768"/>
                    <a:pt x="496" y="735"/>
                    <a:pt x="464" y="696"/>
                  </a:cubicBezTo>
                  <a:cubicBezTo>
                    <a:pt x="428" y="653"/>
                    <a:pt x="464" y="691"/>
                    <a:pt x="440" y="648"/>
                  </a:cubicBezTo>
                  <a:cubicBezTo>
                    <a:pt x="425" y="621"/>
                    <a:pt x="407" y="595"/>
                    <a:pt x="392" y="568"/>
                  </a:cubicBezTo>
                  <a:cubicBezTo>
                    <a:pt x="361" y="514"/>
                    <a:pt x="320" y="465"/>
                    <a:pt x="296" y="408"/>
                  </a:cubicBezTo>
                  <a:cubicBezTo>
                    <a:pt x="274" y="358"/>
                    <a:pt x="255" y="304"/>
                    <a:pt x="208" y="272"/>
                  </a:cubicBezTo>
                  <a:cubicBezTo>
                    <a:pt x="196" y="255"/>
                    <a:pt x="180" y="241"/>
                    <a:pt x="168" y="224"/>
                  </a:cubicBezTo>
                  <a:cubicBezTo>
                    <a:pt x="163" y="217"/>
                    <a:pt x="165" y="207"/>
                    <a:pt x="160" y="200"/>
                  </a:cubicBezTo>
                  <a:cubicBezTo>
                    <a:pt x="146" y="180"/>
                    <a:pt x="129" y="162"/>
                    <a:pt x="112" y="144"/>
                  </a:cubicBezTo>
                  <a:cubicBezTo>
                    <a:pt x="94" y="124"/>
                    <a:pt x="56" y="88"/>
                    <a:pt x="56" y="88"/>
                  </a:cubicBezTo>
                  <a:cubicBezTo>
                    <a:pt x="44" y="51"/>
                    <a:pt x="17" y="33"/>
                    <a:pt x="0" y="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288440" y="1721880"/>
              <a:ext cx="9849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245320" y="1749600"/>
              <a:ext cx="408240" cy="1431720"/>
            </a:xfrm>
            <a:custGeom>
              <a:avLst/>
              <a:gdLst/>
              <a:ahLst/>
              <a:rect l="l" t="t" r="r" b="b"/>
              <a:pathLst>
                <a:path w="301" h="1072">
                  <a:moveTo>
                    <a:pt x="301" y="1072"/>
                  </a:moveTo>
                  <a:cubicBezTo>
                    <a:pt x="296" y="1056"/>
                    <a:pt x="294" y="1038"/>
                    <a:pt x="285" y="1024"/>
                  </a:cubicBezTo>
                  <a:cubicBezTo>
                    <a:pt x="280" y="1016"/>
                    <a:pt x="273" y="1009"/>
                    <a:pt x="269" y="1000"/>
                  </a:cubicBezTo>
                  <a:cubicBezTo>
                    <a:pt x="249" y="955"/>
                    <a:pt x="237" y="903"/>
                    <a:pt x="221" y="856"/>
                  </a:cubicBezTo>
                  <a:cubicBezTo>
                    <a:pt x="199" y="790"/>
                    <a:pt x="190" y="723"/>
                    <a:pt x="173" y="656"/>
                  </a:cubicBezTo>
                  <a:cubicBezTo>
                    <a:pt x="148" y="556"/>
                    <a:pt x="110" y="460"/>
                    <a:pt x="85" y="360"/>
                  </a:cubicBezTo>
                  <a:cubicBezTo>
                    <a:pt x="65" y="280"/>
                    <a:pt x="39" y="199"/>
                    <a:pt x="13" y="120"/>
                  </a:cubicBezTo>
                  <a:cubicBezTo>
                    <a:pt x="0" y="82"/>
                    <a:pt x="13" y="40"/>
                    <a:pt x="13" y="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73400" y="1721880"/>
              <a:ext cx="430200" cy="241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58240" y="2751480"/>
              <a:ext cx="368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1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381120" y="2751480"/>
              <a:ext cx="36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000"/>
                  </a:solidFill>
                  <a:latin typeface="Arial"/>
                </a:rPr>
                <a:t>4´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148840" y="1479960"/>
              <a:ext cx="37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642760" y="1780560"/>
              <a:ext cx="36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056840" y="3720960"/>
              <a:ext cx="37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000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11280" y="692280"/>
              <a:ext cx="37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4427640" y="1484280"/>
            <a:ext cx="1663200" cy="1911960"/>
            <a:chOff x="4427640" y="1484280"/>
            <a:chExt cx="1663200" cy="1911960"/>
          </a:xfrm>
        </p:grpSpPr>
        <p:sp>
          <p:nvSpPr>
            <p:cNvPr id="286" name=""/>
            <p:cNvSpPr/>
            <p:nvPr/>
          </p:nvSpPr>
          <p:spPr>
            <a:xfrm>
              <a:off x="4905360" y="3144600"/>
              <a:ext cx="815400" cy="3492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673520" y="3058920"/>
              <a:ext cx="36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721120" y="2998440"/>
              <a:ext cx="36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981320" y="1968480"/>
              <a:ext cx="699840" cy="1217520"/>
            </a:xfrm>
            <a:custGeom>
              <a:avLst/>
              <a:gdLst/>
              <a:ahLst/>
              <a:rect l="l" t="t" r="r" b="b"/>
              <a:pathLst>
                <a:path w="880" h="1072">
                  <a:moveTo>
                    <a:pt x="880" y="1072"/>
                  </a:moveTo>
                  <a:cubicBezTo>
                    <a:pt x="854" y="1055"/>
                    <a:pt x="842" y="1033"/>
                    <a:pt x="816" y="1016"/>
                  </a:cubicBezTo>
                  <a:cubicBezTo>
                    <a:pt x="811" y="1008"/>
                    <a:pt x="807" y="999"/>
                    <a:pt x="800" y="992"/>
                  </a:cubicBezTo>
                  <a:cubicBezTo>
                    <a:pt x="793" y="985"/>
                    <a:pt x="782" y="984"/>
                    <a:pt x="776" y="976"/>
                  </a:cubicBezTo>
                  <a:cubicBezTo>
                    <a:pt x="771" y="969"/>
                    <a:pt x="772" y="960"/>
                    <a:pt x="768" y="952"/>
                  </a:cubicBezTo>
                  <a:cubicBezTo>
                    <a:pt x="751" y="918"/>
                    <a:pt x="755" y="935"/>
                    <a:pt x="728" y="912"/>
                  </a:cubicBezTo>
                  <a:cubicBezTo>
                    <a:pt x="719" y="905"/>
                    <a:pt x="713" y="895"/>
                    <a:pt x="704" y="888"/>
                  </a:cubicBezTo>
                  <a:cubicBezTo>
                    <a:pt x="689" y="876"/>
                    <a:pt x="656" y="856"/>
                    <a:pt x="656" y="856"/>
                  </a:cubicBezTo>
                  <a:cubicBezTo>
                    <a:pt x="636" y="825"/>
                    <a:pt x="611" y="823"/>
                    <a:pt x="584" y="800"/>
                  </a:cubicBezTo>
                  <a:cubicBezTo>
                    <a:pt x="545" y="768"/>
                    <a:pt x="496" y="735"/>
                    <a:pt x="464" y="696"/>
                  </a:cubicBezTo>
                  <a:cubicBezTo>
                    <a:pt x="428" y="653"/>
                    <a:pt x="464" y="691"/>
                    <a:pt x="440" y="648"/>
                  </a:cubicBezTo>
                  <a:cubicBezTo>
                    <a:pt x="425" y="621"/>
                    <a:pt x="407" y="595"/>
                    <a:pt x="392" y="568"/>
                  </a:cubicBezTo>
                  <a:cubicBezTo>
                    <a:pt x="361" y="514"/>
                    <a:pt x="320" y="465"/>
                    <a:pt x="296" y="408"/>
                  </a:cubicBezTo>
                  <a:cubicBezTo>
                    <a:pt x="274" y="358"/>
                    <a:pt x="255" y="304"/>
                    <a:pt x="208" y="272"/>
                  </a:cubicBezTo>
                  <a:cubicBezTo>
                    <a:pt x="196" y="255"/>
                    <a:pt x="180" y="241"/>
                    <a:pt x="168" y="224"/>
                  </a:cubicBezTo>
                  <a:cubicBezTo>
                    <a:pt x="163" y="217"/>
                    <a:pt x="165" y="207"/>
                    <a:pt x="160" y="200"/>
                  </a:cubicBezTo>
                  <a:cubicBezTo>
                    <a:pt x="146" y="180"/>
                    <a:pt x="129" y="162"/>
                    <a:pt x="112" y="144"/>
                  </a:cubicBezTo>
                  <a:cubicBezTo>
                    <a:pt x="94" y="124"/>
                    <a:pt x="56" y="88"/>
                    <a:pt x="56" y="88"/>
                  </a:cubicBezTo>
                  <a:cubicBezTo>
                    <a:pt x="44" y="51"/>
                    <a:pt x="17" y="33"/>
                    <a:pt x="0" y="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22680" y="1753920"/>
              <a:ext cx="409320" cy="1432080"/>
            </a:xfrm>
            <a:custGeom>
              <a:avLst/>
              <a:gdLst/>
              <a:ahLst/>
              <a:rect l="l" t="t" r="r" b="b"/>
              <a:pathLst>
                <a:path w="301" h="1072">
                  <a:moveTo>
                    <a:pt x="301" y="1072"/>
                  </a:moveTo>
                  <a:cubicBezTo>
                    <a:pt x="296" y="1056"/>
                    <a:pt x="294" y="1038"/>
                    <a:pt x="285" y="1024"/>
                  </a:cubicBezTo>
                  <a:cubicBezTo>
                    <a:pt x="280" y="1016"/>
                    <a:pt x="273" y="1009"/>
                    <a:pt x="269" y="1000"/>
                  </a:cubicBezTo>
                  <a:cubicBezTo>
                    <a:pt x="249" y="955"/>
                    <a:pt x="237" y="903"/>
                    <a:pt x="221" y="856"/>
                  </a:cubicBezTo>
                  <a:cubicBezTo>
                    <a:pt x="199" y="790"/>
                    <a:pt x="190" y="723"/>
                    <a:pt x="173" y="656"/>
                  </a:cubicBezTo>
                  <a:cubicBezTo>
                    <a:pt x="148" y="556"/>
                    <a:pt x="110" y="460"/>
                    <a:pt x="85" y="360"/>
                  </a:cubicBezTo>
                  <a:cubicBezTo>
                    <a:pt x="65" y="280"/>
                    <a:pt x="39" y="199"/>
                    <a:pt x="13" y="120"/>
                  </a:cubicBezTo>
                  <a:cubicBezTo>
                    <a:pt x="0" y="82"/>
                    <a:pt x="13" y="40"/>
                    <a:pt x="13" y="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551120" y="1726920"/>
              <a:ext cx="429840" cy="241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427640" y="1484280"/>
              <a:ext cx="36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921200" y="1785600"/>
              <a:ext cx="36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8000" y="4436640"/>
            <a:ext cx="8496360" cy="242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10000"/>
                </a:solidFill>
                <a:latin typeface="Arial"/>
              </a:rPr>
              <a:t>Area de trabajo de ventilación natura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10000"/>
                </a:solidFill>
                <a:latin typeface="Arial"/>
              </a:rPr>
              <a:t>Lo que interesa es aumentar esta área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10000"/>
                </a:solidFill>
                <a:latin typeface="Arial"/>
              </a:rPr>
              <a:t>Para aumentar la altura se debe profundizar la mina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10000"/>
                </a:solidFill>
                <a:latin typeface="Arial"/>
              </a:rPr>
              <a:t>El aumento de ancho dependerá del mayor aumento de la temperatura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6300720" y="1916280"/>
            <a:ext cx="2664000" cy="1452600"/>
            <a:chOff x="6300720" y="1916280"/>
            <a:chExt cx="2664000" cy="1452600"/>
          </a:xfrm>
        </p:grpSpPr>
        <p:sp>
          <p:nvSpPr>
            <p:cNvPr id="296" name=""/>
            <p:cNvSpPr/>
            <p:nvPr/>
          </p:nvSpPr>
          <p:spPr>
            <a:xfrm>
              <a:off x="6576120" y="2041920"/>
              <a:ext cx="0" cy="104184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13640" y="2041920"/>
              <a:ext cx="0" cy="91584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713640" y="2958120"/>
              <a:ext cx="1837440" cy="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576120" y="3084120"/>
              <a:ext cx="2113200" cy="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8689320" y="2041920"/>
              <a:ext cx="0" cy="104184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8551440" y="2041920"/>
              <a:ext cx="0" cy="91584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300720" y="1916280"/>
              <a:ext cx="27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1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688240" y="1916280"/>
              <a:ext cx="27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1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643600" y="2957400"/>
              <a:ext cx="27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1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300720" y="3000600"/>
              <a:ext cx="27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1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VENTILACION NATURAL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8" name=""/>
          <p:cNvGraphicFramePr/>
          <p:nvPr/>
        </p:nvGraphicFramePr>
        <p:xfrm>
          <a:off x="1258920" y="2421000"/>
          <a:ext cx="6095880" cy="26715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Profundidad de la Mina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Depresión Natural</a:t>
                      </a:r>
                      <a:endParaRPr b="0" lang="en-US" sz="1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400 – 500 metros</a:t>
                      </a:r>
                      <a:endParaRPr b="0" lang="en-US" sz="20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 </a:t>
                      </a:r>
                      <a:r>
                        <a:rPr b="0" lang="es-CL" sz="20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25 – 30  mm c.a.</a:t>
                      </a:r>
                      <a:endParaRPr b="0" lang="en-US" sz="20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700 – 800 metros</a:t>
                      </a:r>
                      <a:endParaRPr b="0" lang="en-US" sz="20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50 – 60 mm  c.a.</a:t>
                      </a:r>
                      <a:endParaRPr b="0" lang="en-US" sz="20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1000 – 2000 metros</a:t>
                      </a:r>
                      <a:endParaRPr b="0" lang="en-US" sz="20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10000"/>
                          </a:solidFill>
                          <a:latin typeface="Arial"/>
                        </a:rPr>
                        <a:t>100 – 120  mm  c.a.</a:t>
                      </a:r>
                      <a:endParaRPr b="0" lang="en-US" sz="20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2281320" y="981000"/>
          <a:ext cx="452268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1320" y="981000"/>
                    <a:ext cx="45226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4873680" y="227664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73680" y="28861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73680" y="34956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3680" y="410544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73680" y="47149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16480" y="4029120"/>
            <a:ext cx="228600" cy="2286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87880" y="4410000"/>
            <a:ext cx="228600" cy="2286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59280" y="4867200"/>
            <a:ext cx="228600" cy="2286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6480" y="517212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68760" y="463860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45080" y="418140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0880" y="501984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0880" y="418140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0880" y="311472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0880" y="197172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16360" y="1268280"/>
            <a:ext cx="457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H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651672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VENTILACION NATURAL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651672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VENTILACION NATURAL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1. Generalidad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La ventilación natural es utilizada en muchos casos como sistema únic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s cambiante, depende de la época del año, en algunos casos, del día y de la noche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Las diferencias de presión entre la entrada y la salida son provocados por el intercambio termodinámico que se produce entre la superficie y el interior de una min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La energía térmica agregada al sistema se transforma a energía de presión, y produce flujo de aire. (por ejemplo el fenómeno de una chimenea dónde el aire caliente sube y se desplaza al aire frío produciendo circulación de aire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651672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VENTILACION NATURAL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2. Ventilación Natural : Caso Mina Idea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 existe pérdida de fricción ni choque (H=0)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os procesos al interior de la mina son adiabáticos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abrá entrega de calor en la explotación de la mina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 existe evaporación ni se agrega gases al aire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a presión atmosférica es la misma en los 2 brocales de los piques.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24000" y="2133720"/>
            <a:ext cx="0" cy="180000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40000" y="2133720"/>
            <a:ext cx="0" cy="158256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40000" y="3716280"/>
            <a:ext cx="2879640" cy="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24000" y="3933720"/>
            <a:ext cx="3311640" cy="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435640" y="2133720"/>
            <a:ext cx="0" cy="180000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9640" y="2133720"/>
            <a:ext cx="0" cy="158256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92360" y="191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1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35640" y="191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1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64000" y="3716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1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92360" y="3789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1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651672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VENTILACION NATURAL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869080" y="2133720"/>
            <a:ext cx="0" cy="180000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84720" y="2133720"/>
            <a:ext cx="0" cy="158256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84720" y="3716280"/>
            <a:ext cx="2160720" cy="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3933720"/>
            <a:ext cx="2594160" cy="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8461440" y="2133720"/>
            <a:ext cx="0" cy="180000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8245440" y="2133720"/>
            <a:ext cx="0" cy="158256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37080" y="1916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1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461440" y="191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1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89800" y="3716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1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37080" y="378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1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000" y="1066320"/>
            <a:ext cx="835164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n un gráfico presión - volume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1 -  2   Compresión adiabática producida por cambio de presión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2  - 3   Expansión a presión constante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3  - 4´  Expansión adiabática hasta el broca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4  - 4´  Expansión en el brocal a la presión atmosférica ( Esta es la presión de ventilación natural )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4  - 1  Compresión a presión constante, el aire arroja su calor hasta alcanzar su temperatura atmosférica.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55640" y="1699920"/>
            <a:ext cx="0" cy="2376360"/>
          </a:xfrm>
          <a:prstGeom prst="line">
            <a:avLst/>
          </a:prstGeom>
          <a:ln w="1908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5640" y="4076640"/>
            <a:ext cx="3456000" cy="0"/>
          </a:xfrm>
          <a:prstGeom prst="line">
            <a:avLst/>
          </a:prstGeom>
          <a:ln w="1908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5640" y="2276640"/>
            <a:ext cx="17287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3213000"/>
            <a:ext cx="21607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3716280"/>
            <a:ext cx="25210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89040" y="2298600"/>
            <a:ext cx="749520" cy="1422360"/>
          </a:xfrm>
          <a:custGeom>
            <a:avLst/>
            <a:gdLst/>
            <a:ahLst/>
            <a:rect l="l" t="t" r="r" b="b"/>
            <a:pathLst>
              <a:path w="472" h="896">
                <a:moveTo>
                  <a:pt x="0" y="0"/>
                </a:moveTo>
                <a:cubicBezTo>
                  <a:pt x="37" y="37"/>
                  <a:pt x="35" y="83"/>
                  <a:pt x="72" y="120"/>
                </a:cubicBezTo>
                <a:cubicBezTo>
                  <a:pt x="92" y="180"/>
                  <a:pt x="119" y="231"/>
                  <a:pt x="144" y="288"/>
                </a:cubicBezTo>
                <a:cubicBezTo>
                  <a:pt x="160" y="325"/>
                  <a:pt x="163" y="352"/>
                  <a:pt x="184" y="384"/>
                </a:cubicBezTo>
                <a:cubicBezTo>
                  <a:pt x="203" y="478"/>
                  <a:pt x="251" y="532"/>
                  <a:pt x="288" y="616"/>
                </a:cubicBezTo>
                <a:cubicBezTo>
                  <a:pt x="307" y="659"/>
                  <a:pt x="312" y="701"/>
                  <a:pt x="352" y="728"/>
                </a:cubicBezTo>
                <a:cubicBezTo>
                  <a:pt x="370" y="782"/>
                  <a:pt x="345" y="723"/>
                  <a:pt x="384" y="768"/>
                </a:cubicBezTo>
                <a:cubicBezTo>
                  <a:pt x="418" y="807"/>
                  <a:pt x="425" y="872"/>
                  <a:pt x="472" y="896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19280" y="2276640"/>
            <a:ext cx="749160" cy="1422360"/>
          </a:xfrm>
          <a:custGeom>
            <a:avLst/>
            <a:gdLst/>
            <a:ahLst/>
            <a:rect l="l" t="t" r="r" b="b"/>
            <a:pathLst>
              <a:path w="472" h="896">
                <a:moveTo>
                  <a:pt x="0" y="0"/>
                </a:moveTo>
                <a:cubicBezTo>
                  <a:pt x="37" y="37"/>
                  <a:pt x="35" y="83"/>
                  <a:pt x="72" y="120"/>
                </a:cubicBezTo>
                <a:cubicBezTo>
                  <a:pt x="92" y="180"/>
                  <a:pt x="119" y="231"/>
                  <a:pt x="144" y="288"/>
                </a:cubicBezTo>
                <a:cubicBezTo>
                  <a:pt x="160" y="325"/>
                  <a:pt x="163" y="352"/>
                  <a:pt x="184" y="384"/>
                </a:cubicBezTo>
                <a:cubicBezTo>
                  <a:pt x="203" y="478"/>
                  <a:pt x="251" y="532"/>
                  <a:pt x="288" y="616"/>
                </a:cubicBezTo>
                <a:cubicBezTo>
                  <a:pt x="307" y="659"/>
                  <a:pt x="312" y="701"/>
                  <a:pt x="352" y="728"/>
                </a:cubicBezTo>
                <a:cubicBezTo>
                  <a:pt x="370" y="782"/>
                  <a:pt x="345" y="723"/>
                  <a:pt x="384" y="768"/>
                </a:cubicBezTo>
                <a:cubicBezTo>
                  <a:pt x="418" y="807"/>
                  <a:pt x="425" y="872"/>
                  <a:pt x="472" y="896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19890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50920" y="35733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987640" y="29973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4´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35002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32000" y="19162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35002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0920" y="2997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20606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40360" y="1700280"/>
            <a:ext cx="0" cy="79200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56360" y="3789360"/>
            <a:ext cx="1800360" cy="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317080" y="2205000"/>
            <a:ext cx="0" cy="122400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9280" y="15573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11640" y="3789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651672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VENTILACION NATURAL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869080" y="2133720"/>
            <a:ext cx="0" cy="180000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84720" y="2133720"/>
            <a:ext cx="0" cy="158256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84720" y="3716280"/>
            <a:ext cx="2160720" cy="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67280" y="3933720"/>
            <a:ext cx="2594160" cy="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8461440" y="2133720"/>
            <a:ext cx="0" cy="180000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8245440" y="2133720"/>
            <a:ext cx="0" cy="158256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37080" y="1916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1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461440" y="191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1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9800" y="3716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1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37080" y="378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1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000" y="1066320"/>
            <a:ext cx="835164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n un gráfico presión - volume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El área   a-1-2-b-a  = cambio de energía potencial y es igual al área b-3-4´-c-b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El área  c-4´-4-a-c--=  área  1-2-3-4-1  Trabajo de Ventilación natura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4 – 4´ Presión de Ventilación  Natura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55640" y="1699920"/>
            <a:ext cx="0" cy="2376360"/>
          </a:xfrm>
          <a:prstGeom prst="line">
            <a:avLst/>
          </a:prstGeom>
          <a:ln w="1908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5640" y="4076640"/>
            <a:ext cx="3456000" cy="0"/>
          </a:xfrm>
          <a:prstGeom prst="line">
            <a:avLst/>
          </a:prstGeom>
          <a:ln w="1908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5640" y="2276640"/>
            <a:ext cx="17287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55640" y="3213000"/>
            <a:ext cx="21607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5640" y="3716280"/>
            <a:ext cx="25210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89040" y="2298600"/>
            <a:ext cx="749520" cy="1422360"/>
          </a:xfrm>
          <a:custGeom>
            <a:avLst/>
            <a:gdLst/>
            <a:ahLst/>
            <a:rect l="l" t="t" r="r" b="b"/>
            <a:pathLst>
              <a:path w="472" h="896">
                <a:moveTo>
                  <a:pt x="0" y="0"/>
                </a:moveTo>
                <a:cubicBezTo>
                  <a:pt x="37" y="37"/>
                  <a:pt x="35" y="83"/>
                  <a:pt x="72" y="120"/>
                </a:cubicBezTo>
                <a:cubicBezTo>
                  <a:pt x="92" y="180"/>
                  <a:pt x="119" y="231"/>
                  <a:pt x="144" y="288"/>
                </a:cubicBezTo>
                <a:cubicBezTo>
                  <a:pt x="160" y="325"/>
                  <a:pt x="163" y="352"/>
                  <a:pt x="184" y="384"/>
                </a:cubicBezTo>
                <a:cubicBezTo>
                  <a:pt x="203" y="478"/>
                  <a:pt x="251" y="532"/>
                  <a:pt x="288" y="616"/>
                </a:cubicBezTo>
                <a:cubicBezTo>
                  <a:pt x="307" y="659"/>
                  <a:pt x="312" y="701"/>
                  <a:pt x="352" y="728"/>
                </a:cubicBezTo>
                <a:cubicBezTo>
                  <a:pt x="370" y="782"/>
                  <a:pt x="345" y="723"/>
                  <a:pt x="384" y="768"/>
                </a:cubicBezTo>
                <a:cubicBezTo>
                  <a:pt x="418" y="807"/>
                  <a:pt x="425" y="872"/>
                  <a:pt x="472" y="896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19280" y="2276640"/>
            <a:ext cx="749160" cy="1422360"/>
          </a:xfrm>
          <a:custGeom>
            <a:avLst/>
            <a:gdLst/>
            <a:ahLst/>
            <a:rect l="l" t="t" r="r" b="b"/>
            <a:pathLst>
              <a:path w="472" h="896">
                <a:moveTo>
                  <a:pt x="0" y="0"/>
                </a:moveTo>
                <a:cubicBezTo>
                  <a:pt x="37" y="37"/>
                  <a:pt x="35" y="83"/>
                  <a:pt x="72" y="120"/>
                </a:cubicBezTo>
                <a:cubicBezTo>
                  <a:pt x="92" y="180"/>
                  <a:pt x="119" y="231"/>
                  <a:pt x="144" y="288"/>
                </a:cubicBezTo>
                <a:cubicBezTo>
                  <a:pt x="160" y="325"/>
                  <a:pt x="163" y="352"/>
                  <a:pt x="184" y="384"/>
                </a:cubicBezTo>
                <a:cubicBezTo>
                  <a:pt x="203" y="478"/>
                  <a:pt x="251" y="532"/>
                  <a:pt x="288" y="616"/>
                </a:cubicBezTo>
                <a:cubicBezTo>
                  <a:pt x="307" y="659"/>
                  <a:pt x="312" y="701"/>
                  <a:pt x="352" y="728"/>
                </a:cubicBezTo>
                <a:cubicBezTo>
                  <a:pt x="370" y="782"/>
                  <a:pt x="345" y="723"/>
                  <a:pt x="384" y="768"/>
                </a:cubicBezTo>
                <a:cubicBezTo>
                  <a:pt x="418" y="807"/>
                  <a:pt x="425" y="872"/>
                  <a:pt x="472" y="896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84360" y="19890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35733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87640" y="29973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4´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35002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32000" y="19162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0920" y="35002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2997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20606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40360" y="1700280"/>
            <a:ext cx="0" cy="79200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56360" y="3789360"/>
            <a:ext cx="1800360" cy="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8317080" y="2205000"/>
            <a:ext cx="0" cy="122400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84720" y="39337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0920" y="1557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651672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VENTILACION NATURAL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000" y="1066320"/>
            <a:ext cx="835164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Luego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Hn = L * ( z1 – z2 ) = p1 – p2   mm c.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Dónde     L = altura del pozo (pique)  m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                </a:t>
            </a: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z1  y z2  pesos específicos medios del aire en los pozos de aire entrante y saliente   en Kg/m3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                 </a:t>
            </a: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p1  y p2 = presiones de las corrientes entrante y saliente en la profundidad 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El peso específico del aire   z= 0,465*p / 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                 </a:t>
            </a: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T es la temperatura absoluta en °K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                 </a:t>
            </a: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p es la presión   mm de mercurio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651672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VENTILACION NATURAL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000" y="1066320"/>
            <a:ext cx="835164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Las presiones p1  y p2 se determinan por las fórmula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Log p1 = log p0 + 0,015 L/T1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Log p2 = log p0 + 0,015 L/T2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Dónde T1 y T2 son las temperaturas medias absolutas del aire entrante y salient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2 mediciones por pozo son suficient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651672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VENTILACION NATURAL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000" y="1066320"/>
            <a:ext cx="849636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3. Ventilación Natural : Caso Mina Rea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 tienen pérdida por fricción y por choque (H distinto de 0)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a posibilidad de entregar trabajo disminuye y la Presión de Ventilación (4´) también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3640" y="3018960"/>
            <a:ext cx="0" cy="3529080"/>
          </a:xfrm>
          <a:prstGeom prst="line">
            <a:avLst/>
          </a:prstGeom>
          <a:ln w="1908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03640" y="6548400"/>
            <a:ext cx="3456000" cy="0"/>
          </a:xfrm>
          <a:prstGeom prst="line">
            <a:avLst/>
          </a:prstGeom>
          <a:ln w="1908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03640" y="3811680"/>
            <a:ext cx="1728720" cy="0"/>
          </a:xfrm>
          <a:prstGeom prst="line">
            <a:avLst/>
          </a:prstGeom>
          <a:ln w="9360">
            <a:solidFill>
              <a:srgbClr val="01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03640" y="5251320"/>
            <a:ext cx="2160360" cy="0"/>
          </a:xfrm>
          <a:prstGeom prst="line">
            <a:avLst/>
          </a:prstGeom>
          <a:ln w="9360">
            <a:solidFill>
              <a:srgbClr val="01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03640" y="5899320"/>
            <a:ext cx="25207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59280" y="3811680"/>
            <a:ext cx="827280" cy="2092320"/>
          </a:xfrm>
          <a:custGeom>
            <a:avLst/>
            <a:gdLst/>
            <a:ahLst/>
            <a:rect l="l" t="t" r="r" b="b"/>
            <a:pathLst>
              <a:path w="472" h="896">
                <a:moveTo>
                  <a:pt x="0" y="0"/>
                </a:moveTo>
                <a:cubicBezTo>
                  <a:pt x="37" y="37"/>
                  <a:pt x="35" y="83"/>
                  <a:pt x="72" y="120"/>
                </a:cubicBezTo>
                <a:cubicBezTo>
                  <a:pt x="92" y="180"/>
                  <a:pt x="119" y="231"/>
                  <a:pt x="144" y="288"/>
                </a:cubicBezTo>
                <a:cubicBezTo>
                  <a:pt x="160" y="325"/>
                  <a:pt x="163" y="352"/>
                  <a:pt x="184" y="384"/>
                </a:cubicBezTo>
                <a:cubicBezTo>
                  <a:pt x="203" y="478"/>
                  <a:pt x="251" y="532"/>
                  <a:pt x="288" y="616"/>
                </a:cubicBezTo>
                <a:cubicBezTo>
                  <a:pt x="307" y="659"/>
                  <a:pt x="312" y="701"/>
                  <a:pt x="352" y="728"/>
                </a:cubicBezTo>
                <a:cubicBezTo>
                  <a:pt x="370" y="782"/>
                  <a:pt x="345" y="723"/>
                  <a:pt x="384" y="768"/>
                </a:cubicBezTo>
                <a:cubicBezTo>
                  <a:pt x="418" y="807"/>
                  <a:pt x="425" y="872"/>
                  <a:pt x="472" y="896"/>
                </a:cubicBezTo>
              </a:path>
            </a:pathLst>
          </a:custGeom>
          <a:noFill/>
          <a:ln w="9360">
            <a:solidFill>
              <a:srgbClr val="01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24360" y="3811680"/>
            <a:ext cx="892080" cy="2070000"/>
          </a:xfrm>
          <a:custGeom>
            <a:avLst/>
            <a:gdLst/>
            <a:ahLst/>
            <a:rect l="l" t="t" r="r" b="b"/>
            <a:pathLst>
              <a:path w="472" h="896">
                <a:moveTo>
                  <a:pt x="0" y="0"/>
                </a:moveTo>
                <a:cubicBezTo>
                  <a:pt x="37" y="37"/>
                  <a:pt x="35" y="83"/>
                  <a:pt x="72" y="120"/>
                </a:cubicBezTo>
                <a:cubicBezTo>
                  <a:pt x="92" y="180"/>
                  <a:pt x="119" y="231"/>
                  <a:pt x="144" y="288"/>
                </a:cubicBezTo>
                <a:cubicBezTo>
                  <a:pt x="160" y="325"/>
                  <a:pt x="163" y="352"/>
                  <a:pt x="184" y="384"/>
                </a:cubicBezTo>
                <a:cubicBezTo>
                  <a:pt x="203" y="478"/>
                  <a:pt x="251" y="532"/>
                  <a:pt x="288" y="616"/>
                </a:cubicBezTo>
                <a:cubicBezTo>
                  <a:pt x="307" y="659"/>
                  <a:pt x="312" y="701"/>
                  <a:pt x="352" y="728"/>
                </a:cubicBezTo>
                <a:cubicBezTo>
                  <a:pt x="370" y="782"/>
                  <a:pt x="345" y="723"/>
                  <a:pt x="384" y="768"/>
                </a:cubicBezTo>
                <a:cubicBezTo>
                  <a:pt x="418" y="807"/>
                  <a:pt x="425" y="872"/>
                  <a:pt x="472" y="896"/>
                </a:cubicBezTo>
              </a:path>
            </a:pathLst>
          </a:custGeom>
          <a:noFill/>
          <a:ln w="9360">
            <a:solidFill>
              <a:srgbClr val="01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32360" y="35244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(3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498920" y="57564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35640" y="518004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(4)´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24360" y="568332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80000" y="345132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698920" y="56833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98920" y="51800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(c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00360" y="359568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(b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3640" y="5540400"/>
            <a:ext cx="21603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03640" y="4459320"/>
            <a:ext cx="16556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59280" y="4459320"/>
            <a:ext cx="817560" cy="1447920"/>
          </a:xfrm>
          <a:custGeom>
            <a:avLst/>
            <a:gdLst/>
            <a:ahLst/>
            <a:rect l="l" t="t" r="r" b="b"/>
            <a:pathLst>
              <a:path w="880" h="1072">
                <a:moveTo>
                  <a:pt x="880" y="1072"/>
                </a:moveTo>
                <a:cubicBezTo>
                  <a:pt x="854" y="1055"/>
                  <a:pt x="842" y="1033"/>
                  <a:pt x="816" y="1016"/>
                </a:cubicBezTo>
                <a:cubicBezTo>
                  <a:pt x="811" y="1008"/>
                  <a:pt x="807" y="999"/>
                  <a:pt x="800" y="992"/>
                </a:cubicBezTo>
                <a:cubicBezTo>
                  <a:pt x="793" y="985"/>
                  <a:pt x="782" y="984"/>
                  <a:pt x="776" y="976"/>
                </a:cubicBezTo>
                <a:cubicBezTo>
                  <a:pt x="771" y="969"/>
                  <a:pt x="772" y="960"/>
                  <a:pt x="768" y="952"/>
                </a:cubicBezTo>
                <a:cubicBezTo>
                  <a:pt x="751" y="918"/>
                  <a:pt x="755" y="935"/>
                  <a:pt x="728" y="912"/>
                </a:cubicBezTo>
                <a:cubicBezTo>
                  <a:pt x="719" y="905"/>
                  <a:pt x="713" y="895"/>
                  <a:pt x="704" y="888"/>
                </a:cubicBezTo>
                <a:cubicBezTo>
                  <a:pt x="689" y="876"/>
                  <a:pt x="656" y="856"/>
                  <a:pt x="656" y="856"/>
                </a:cubicBezTo>
                <a:cubicBezTo>
                  <a:pt x="636" y="825"/>
                  <a:pt x="611" y="823"/>
                  <a:pt x="584" y="800"/>
                </a:cubicBezTo>
                <a:cubicBezTo>
                  <a:pt x="545" y="768"/>
                  <a:pt x="496" y="735"/>
                  <a:pt x="464" y="696"/>
                </a:cubicBezTo>
                <a:cubicBezTo>
                  <a:pt x="428" y="653"/>
                  <a:pt x="464" y="691"/>
                  <a:pt x="440" y="648"/>
                </a:cubicBezTo>
                <a:cubicBezTo>
                  <a:pt x="425" y="621"/>
                  <a:pt x="407" y="595"/>
                  <a:pt x="392" y="568"/>
                </a:cubicBezTo>
                <a:cubicBezTo>
                  <a:pt x="361" y="514"/>
                  <a:pt x="320" y="465"/>
                  <a:pt x="296" y="408"/>
                </a:cubicBezTo>
                <a:cubicBezTo>
                  <a:pt x="274" y="358"/>
                  <a:pt x="255" y="304"/>
                  <a:pt x="208" y="272"/>
                </a:cubicBezTo>
                <a:cubicBezTo>
                  <a:pt x="196" y="255"/>
                  <a:pt x="180" y="241"/>
                  <a:pt x="168" y="224"/>
                </a:cubicBezTo>
                <a:cubicBezTo>
                  <a:pt x="163" y="217"/>
                  <a:pt x="165" y="207"/>
                  <a:pt x="160" y="200"/>
                </a:cubicBezTo>
                <a:cubicBezTo>
                  <a:pt x="146" y="180"/>
                  <a:pt x="129" y="162"/>
                  <a:pt x="112" y="144"/>
                </a:cubicBezTo>
                <a:cubicBezTo>
                  <a:pt x="94" y="124"/>
                  <a:pt x="56" y="88"/>
                  <a:pt x="56" y="88"/>
                </a:cubicBezTo>
                <a:cubicBezTo>
                  <a:pt x="44" y="51"/>
                  <a:pt x="17" y="33"/>
                  <a:pt x="0" y="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03640" y="4172040"/>
            <a:ext cx="11523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22880" y="4205160"/>
            <a:ext cx="477720" cy="1702080"/>
          </a:xfrm>
          <a:custGeom>
            <a:avLst/>
            <a:gdLst/>
            <a:ahLst/>
            <a:rect l="l" t="t" r="r" b="b"/>
            <a:pathLst>
              <a:path w="301" h="1072">
                <a:moveTo>
                  <a:pt x="301" y="1072"/>
                </a:moveTo>
                <a:cubicBezTo>
                  <a:pt x="296" y="1056"/>
                  <a:pt x="294" y="1038"/>
                  <a:pt x="285" y="1024"/>
                </a:cubicBezTo>
                <a:cubicBezTo>
                  <a:pt x="280" y="1016"/>
                  <a:pt x="273" y="1009"/>
                  <a:pt x="269" y="1000"/>
                </a:cubicBezTo>
                <a:cubicBezTo>
                  <a:pt x="249" y="955"/>
                  <a:pt x="237" y="903"/>
                  <a:pt x="221" y="856"/>
                </a:cubicBezTo>
                <a:cubicBezTo>
                  <a:pt x="199" y="790"/>
                  <a:pt x="190" y="723"/>
                  <a:pt x="173" y="656"/>
                </a:cubicBezTo>
                <a:cubicBezTo>
                  <a:pt x="148" y="556"/>
                  <a:pt x="110" y="460"/>
                  <a:pt x="85" y="360"/>
                </a:cubicBezTo>
                <a:cubicBezTo>
                  <a:pt x="65" y="280"/>
                  <a:pt x="39" y="199"/>
                  <a:pt x="13" y="120"/>
                </a:cubicBezTo>
                <a:cubicBezTo>
                  <a:pt x="0" y="82"/>
                  <a:pt x="13" y="40"/>
                  <a:pt x="13" y="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356000" y="4172040"/>
            <a:ext cx="503280" cy="287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00360" y="53960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1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651640" y="53960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4´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211640" y="38829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88000" y="42433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443640" y="65484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411280" y="29480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1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8T01:30:58Z</dcterms:created>
  <dc:creator>Gustavo Reyes B.</dc:creator>
  <dc:description/>
  <dc:language>en-US</dc:language>
  <cp:lastModifiedBy>Home</cp:lastModifiedBy>
  <dcterms:modified xsi:type="dcterms:W3CDTF">2004-09-30T01:50:00Z</dcterms:modified>
  <cp:revision>33</cp:revision>
  <dc:subject/>
  <dc:title>VENTILADORES DE MINAS</dc:title>
</cp:coreProperties>
</file>